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E0C6-D98A-4A3B-813F-C62639A8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6DF4-52C3-4BAB-A35D-D1C03AE4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17C-FAD7-4A78-9171-43C65513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6A52-0248-47C2-9DA9-9B76212F6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A1284-FEEF-4BCC-9117-2BF2B6533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BE88-7130-4E1A-BE53-EA019B272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9A81-5FA1-48F9-8FAC-8EB7A70A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72FA-FA8C-427D-A417-EE656D4B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3FB41-DFDB-4DC2-9DA2-560B4121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DC65-CDF7-4F9D-BAAD-7EBCE90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8D1CC-97B8-4834-8EAC-2FB71B8A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6B5-9646-4DC9-AFFE-B861B2E1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79B6F-23F1-41D0-B583-B6393E2C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0DFC-8094-4B21-A981-6396207E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C7E28-1AA7-4653-98C2-A058E62A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E677-9755-4F36-8FD5-0642121D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66177-64AD-426E-81CF-41C68076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B4BB-BAC5-43D7-8080-7018393C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496-733F-4741-9E41-BA96EDDD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3A71-AF67-4FB3-ADB1-C06D08619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7F1-96BB-49E5-BFDE-FC3F2A5D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829D-49A1-49E8-858B-A515CB52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F60-EF71-4DDC-807B-02D286B9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47D1-F632-4172-8671-17E1B60C3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7BFC1-5D2E-4747-BC81-70F9B67036D1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58A5-2DC6-49C8-BA97-F9BAFF4E1F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Pengui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By David 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5651640" y="0"/>
            <a:ext cx="1476360" cy="16286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3276720" y="0"/>
            <a:ext cx="2390760" cy="15908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4"/>
          <a:stretch/>
        </p:blipFill>
        <p:spPr>
          <a:xfrm>
            <a:off x="1547640" y="0"/>
            <a:ext cx="1729080" cy="16286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5"/>
          <a:stretch/>
        </p:blipFill>
        <p:spPr>
          <a:xfrm>
            <a:off x="7093080" y="0"/>
            <a:ext cx="20509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ere do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81840" cy="9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Cold  places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In Antarctica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788000" y="3284640"/>
            <a:ext cx="21492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do they ea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524844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Fish squid krill and shrimp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1979640" y="4797360"/>
            <a:ext cx="2508120" cy="20606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4500720" y="4797360"/>
            <a:ext cx="2232000" cy="20606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0" y="4797360"/>
            <a:ext cx="197964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How do they swim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31960" y="2006640"/>
            <a:ext cx="754848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cc00"/>
                </a:solidFill>
                <a:latin typeface="Arial Black"/>
              </a:rPr>
              <a:t>By moving their feet side to side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4140360" y="2421000"/>
            <a:ext cx="2663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What are their enemie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Seals, orcas and skua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255600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4932360" y="5157720"/>
            <a:ext cx="2376360" cy="17002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3"/>
          <a:stretch/>
        </p:blipFill>
        <p:spPr>
          <a:xfrm>
            <a:off x="7236000" y="5157720"/>
            <a:ext cx="1908000" cy="17002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"/>
          <a:stretch/>
        </p:blipFill>
        <p:spPr>
          <a:xfrm>
            <a:off x="0" y="5157720"/>
            <a:ext cx="255600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5 interesting fact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134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A Penguin is not a bir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get all their food under water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huddle together to keep saf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 spend two months keeping their eggs warm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Penguins love the snow and ice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 Black"/>
              </a:rPr>
              <a:t>Thanks for watching my show, bye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287784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23:30:50Z</dcterms:created>
  <dc:creator>room6</dc:creator>
  <dc:description/>
  <dc:language>en-US</dc:language>
  <cp:lastModifiedBy>room6</cp:lastModifiedBy>
  <dcterms:modified xsi:type="dcterms:W3CDTF">2010-06-11T01:43:47Z</dcterms:modified>
  <cp:revision>7</cp:revision>
  <dc:subject/>
  <dc:title>Peguiun</dc:title>
</cp:coreProperties>
</file>