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E79-6374-4191-B5B1-E9397F2D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BC1-4611-4D6D-8AB0-067C473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F70-6EBF-4832-8863-89DC4FFB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3A6-B27D-487D-B746-95C128A4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074-5117-4CDD-835B-2A58CCC3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069E-0C63-423A-BE24-BBC2925F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077-489A-46A8-8B6F-7AA27A5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FB61-5827-494D-9EB3-18A1F42C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25F7-16F9-4A69-821A-90A888A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2A7-EA21-446F-A71B-701405C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E95D-D127-44A4-9DDC-D352DC70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561-0FEA-43D7-9AD4-F89011FE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B39B-63B1-4F03-975F-368FF7C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3996-BFA0-4686-8598-2AEA176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BA7-8CDC-4E57-9E5D-3853DA8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7305-FAF7-48A7-BBF0-56E5C3B3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7FC-64B8-451B-A6B2-82253168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498-50A9-4A6C-ACD8-5CE4185B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B1E-0494-4587-BF57-D32EF4D4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131-D558-44D2-8956-8B2A814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508-5F3A-47F1-AB1A-99CEB77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89F-D52B-4FB8-9243-3617CE8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960-7ACA-4F57-8040-DDF5099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2B5-BCBE-4E5B-AB36-44FD4A7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E8EB-77CC-4081-A326-A7D5B756B88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A3C-0F32-4790-8A2B-DF01F557A45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David 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90760" cy="15908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547640" y="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093080" y="0"/>
            <a:ext cx="2050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re do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old  plac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In Antarct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2149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do they ea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484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Fish squid krill and shrim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79640" y="4797360"/>
            <a:ext cx="2508120" cy="2060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2232000" cy="206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How do they swi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1960" y="2006640"/>
            <a:ext cx="754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moving their feet side to si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26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are their enemi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eals, orcas and sku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5600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3236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236000" y="5157720"/>
            <a:ext cx="1908000" cy="1700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2556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5 interesting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A Penguin is not a bi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get all their food under wa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huddle together to keep saf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 spend two months keeping their eggs wa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love the snow and 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anks for watching my show, by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778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30:50Z</dcterms:created>
  <dc:creator>room6</dc:creator>
  <dc:description/>
  <dc:language>en-US</dc:language>
  <cp:lastModifiedBy>room6</cp:lastModifiedBy>
  <dcterms:modified xsi:type="dcterms:W3CDTF">2010-06-11T01:43:47Z</dcterms:modified>
  <cp:revision>7</cp:revision>
  <dc:subject/>
  <dc:title>Peguiun</dc:title>
</cp:coreProperties>
</file>