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C86-047B-4F6C-8DD9-5717659A3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0260-02E2-48A3-BF93-4E753287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FA3-29C8-426D-9861-5810A7004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19FB-12C3-40F2-BB00-CA934908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677E-6F61-4BE7-A214-BAA753BF7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EB9E-6874-4022-875E-7DBAD104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D76D6-7967-4CFE-8C78-BCB05D41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B37A6-2D20-45DE-A2EB-6A8492845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88262-E968-4675-B395-4FFF46D11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2CAAC-4E5E-4D2F-8245-FB7A1042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1084-8C3C-4160-AF0C-3B11E66E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4109-4D6A-41A8-B3BC-B66FAD25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1C8D-733A-4A02-8321-87E73A3E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4D980-CEFE-4616-AC1D-36CAC8C9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7D92-D83E-4752-8575-CDD61A6C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A5A64-8A5D-4A36-AB3E-D1E88CE3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8FA08-65D9-4B66-8C9C-F986F883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130C-F526-4CD9-AB33-82DF598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D64-3ED9-4C21-BFE7-27285468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BC36-4A3E-4DF2-B02F-9CD0AE85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C943-85B2-4542-9C7F-07E5B7722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EED66-DB18-4C5C-B47C-408B2338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77CB-2C10-4482-8F95-6B0DF6D5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B4C9-5F7B-4AAB-BF1F-89D8562C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4707-FFFE-4A0A-BEBE-D2B7FB2BBCC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56BA-92E7-4700-9F63-2E4FE24010AC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63520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engui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David 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628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651640" y="0"/>
            <a:ext cx="1476360" cy="1628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2390760" cy="15908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547640" y="0"/>
            <a:ext cx="1729080" cy="1628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7093080" y="0"/>
            <a:ext cx="20509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ere do they liv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Cold  plac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In Antarctic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21492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at do they ea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484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Fish squid krill and shrimp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79640" y="4797360"/>
            <a:ext cx="2508120" cy="2060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500720" y="4797360"/>
            <a:ext cx="2232000" cy="2060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979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How do they swi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1960" y="2006640"/>
            <a:ext cx="754848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By moving their feet side to sid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266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at are their enemie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Seals, orcas and sku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556000" y="5157720"/>
            <a:ext cx="2376360" cy="1700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932360" y="5157720"/>
            <a:ext cx="2376360" cy="1700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7236000" y="5157720"/>
            <a:ext cx="1908000" cy="1700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0" y="5157720"/>
            <a:ext cx="2556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5 interesting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A Penguin is not a bir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get all their food under wa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huddle together to keep saf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 spend two months keeping their eggs war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love the snow and 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anks for watching my show, bye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87784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3:30:50Z</dcterms:created>
  <dc:creator>room6</dc:creator>
  <dc:description/>
  <dc:language>en-US</dc:language>
  <cp:lastModifiedBy>room6</cp:lastModifiedBy>
  <dcterms:modified xsi:type="dcterms:W3CDTF">2010-06-11T01:43:47Z</dcterms:modified>
  <cp:revision>7</cp:revision>
  <dc:subject/>
  <dc:title>Peguiun</dc:title>
</cp:coreProperties>
</file>