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62E-4954-4E17-B7CD-1D54D6F9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C2C-6BC7-434D-94DD-01D3A8C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F97-34F5-4BDB-83FF-56C774A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B95-7438-440E-8DA9-15A086D9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DBD9-BC8E-431E-9C1B-76DF007D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7D39-A829-4FDD-917B-58561EE4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692-AECD-496C-B603-36EB46E4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13F-1E35-4BF8-9837-902D66E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B6EB-CCA3-48C1-AD36-69B939F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2589-78FA-4834-836B-E4D8341D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95B3-E35F-4205-AAF9-65CA1288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E2E-6CD0-4E4D-B9CF-C4C9A10D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89BA-572D-499C-8BAF-6CD3FED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B11D-C23C-4B28-857D-6F2CC99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8820-8892-4CA5-B64A-C97A7922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F0D-1E31-4B24-B6DE-389260BB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4137-B5FC-409D-9BF7-C40AF441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96A-4863-4162-A664-8779BE6C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C5D-BB59-458C-B822-1437BC82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55A-D817-4427-8E7E-9FAE3263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2B2-0496-4355-953F-4300D65E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4AE-6F1A-401A-A725-52144600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98B-3284-4FA6-A28D-B281782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FD4-3076-4C64-B32A-3FFC8F0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73D-0F3C-41B2-8590-792CEA61AA5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CD7-F87F-4B93-87C1-66A6D65F8E5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David 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90760" cy="15908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547640" y="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093080" y="0"/>
            <a:ext cx="2050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re do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old  plac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In Antarct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2149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do they ea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484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Fish squid krill and shrim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79640" y="4797360"/>
            <a:ext cx="2508120" cy="2060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2232000" cy="206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How do they swi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1960" y="2006640"/>
            <a:ext cx="754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moving their feet side to si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26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are their enemi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eals, orcas and sku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5600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3236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236000" y="5157720"/>
            <a:ext cx="1908000" cy="1700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2556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5 interesting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A Penguin is not a bi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get all their food under wa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huddle together to keep saf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 spend two months keeping their eggs wa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love the snow and 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anks for watching my show, by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778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30:50Z</dcterms:created>
  <dc:creator>room6</dc:creator>
  <dc:description/>
  <dc:language>en-US</dc:language>
  <cp:lastModifiedBy>room6</cp:lastModifiedBy>
  <dcterms:modified xsi:type="dcterms:W3CDTF">2010-06-11T01:43:47Z</dcterms:modified>
  <cp:revision>7</cp:revision>
  <dc:subject/>
  <dc:title>Peguiun</dc:title>
</cp:coreProperties>
</file>