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A53-B81E-41C9-8B27-1192543B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525-7743-48EB-B183-0E7ABE0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710-2D9F-454D-89BA-BF84614A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A1A-87A9-4088-9A15-DDAD26D2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C02-81DA-4E58-82EB-0A15BB0B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3738-AA91-4732-BE78-2D6CCA9D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CCB1-7C40-4EB2-AC02-D317664D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92B-D769-4CAB-B4DF-C56667B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C2CE-0E0D-4B56-A4E5-D6DE4436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00A5-AD0B-4C10-ADBE-E5F7D28B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ADB8-4B4B-4533-959C-FD1562E3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AA9-0BD0-4747-B329-2BE1DD6D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9C98-E854-4FFE-80DA-46923767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81F6-6382-4CD1-AAA0-246D405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91B-C688-48D4-A3F0-FB8A6623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47E1-EDD3-4D42-97D9-DC01302A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2084-F0C2-4F79-9435-ACAADC30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0A2-4D20-414A-9545-096C6207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B66-CBF9-434F-9F6C-CEB775D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9D4-BD32-4E62-A5EE-F6ADCE45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3D4-DA15-40D1-A176-E39A637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B2F-A7DE-4C71-B4E6-BC4C579B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D2D-60EA-44E8-B91A-0004859B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B43-4E9D-41A7-83CA-B92E8BB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056-A2A2-4380-A04D-2C96BF4DB5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F15-B801-4A1B-A087-EB940CAF3C8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Arial Black"/>
              </a:rPr>
              <a:t>crocodi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167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Where they liv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Near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e1f08"/>
                </a:solidFill>
                <a:latin typeface="Arial Black"/>
              </a:rPr>
              <a:t>What they ea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4400" spc="-1" strike="noStrike">
                <a:solidFill>
                  <a:srgbClr val="ffcc00"/>
                </a:solidFill>
                <a:latin typeface="Arial Black"/>
              </a:rPr>
              <a:t>wildebeest and mamm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66"/>
                </a:solidFill>
                <a:latin typeface="Arial Black"/>
              </a:rPr>
              <a:t>5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have tears in there eyes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when they have eat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very bi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eat mea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 biggest crocs in the world are saltwater croc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blac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2421000"/>
            <a:ext cx="6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06064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2565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2060640"/>
            <a:ext cx="72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3250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177336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3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What are  their</a:t>
            </a:r>
            <a:r>
              <a:rPr b="0" lang="en-NZ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enemies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cc"/>
                </a:solidFill>
                <a:latin typeface="Arial Black"/>
              </a:rPr>
              <a:t>How long  they ar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wice  the size of the biggest  ones to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3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3:46:07Z</dcterms:created>
  <dc:creator>room6</dc:creator>
  <dc:description/>
  <dc:language>en-US</dc:language>
  <cp:lastModifiedBy>room6</cp:lastModifiedBy>
  <dcterms:modified xsi:type="dcterms:W3CDTF">2010-05-25T23:42:20Z</dcterms:modified>
  <cp:revision>8</cp:revision>
  <dc:subject/>
  <dc:title>crocodiles</dc:title>
</cp:coreProperties>
</file>