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D8E7-2AD5-406B-9B89-458A9295C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018-CB59-4901-8617-D3BD3E470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65B0-C0C6-4726-9325-E38C4E6F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066D-6E06-4693-9192-4D1C0B0E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0DCF-FF19-4113-A238-943F3293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F848-BDB3-47DF-AD2C-9236A3CBF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6BB87-41AB-4082-88E7-73AC22E3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6901-5FA2-447E-A1B4-8DC6AD3C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45C33-4B9B-4658-8638-80798103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E98C-273C-437D-9BFF-71A9BD235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691D-6EA5-4A8D-B602-6EE5DA93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FCF8-3C4E-4770-981E-571EA6DA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783D-078E-4565-AB8B-6ADC2C41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4E265-9784-45B8-9A2B-52816A55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6563-6011-4353-AF52-9270DD26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D3348-02A5-4E6D-9251-8547D999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2AF02-6FA3-468D-8F46-724C8AD2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84E5-35A5-488A-B3E4-E5FFFA841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355F-F8BB-4EED-AEC9-59E3C936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E60D-19D1-4FB1-B0B3-82C57F47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522C-886C-40B8-9B14-255D5ADA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4713-0DF2-48B9-ABA5-947E9FB2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B67BB-1E30-429F-9D5C-62591196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4BD8-DCA7-479B-AB37-028EF27C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F7192-110E-4408-B91A-5BA23F7B93F4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392FC-7A83-4949-924F-FED8E81B807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33cc"/>
                </a:solidFill>
                <a:latin typeface="Arial Black"/>
              </a:rPr>
              <a:t>crocodil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max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5076720" y="765000"/>
            <a:ext cx="316728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Where they live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Near wat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4716360" y="2997360"/>
            <a:ext cx="2087640" cy="208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e1f08"/>
                </a:solidFill>
                <a:latin typeface="Arial Black"/>
              </a:rPr>
              <a:t>What they eat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4400" spc="-1" strike="noStrike">
                <a:solidFill>
                  <a:srgbClr val="ffcc00"/>
                </a:solidFill>
                <a:latin typeface="Arial Black"/>
              </a:rPr>
              <a:t>wildebeest and mammal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66ff66"/>
                </a:solidFill>
                <a:latin typeface="Arial Black"/>
              </a:rPr>
              <a:t>5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y have tears in there eyes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when they have eaten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y can be very big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y eat meat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 biggest crocs in the world are saltwater croc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6ff66"/>
                </a:solidFill>
                <a:latin typeface="Arial Black"/>
              </a:rPr>
              <a:t>They can be black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"/>
          <p:cNvSpPr/>
          <p:nvPr/>
        </p:nvSpPr>
        <p:spPr>
          <a:xfrm>
            <a:off x="684360" y="2421000"/>
            <a:ext cx="69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4360" y="2060640"/>
            <a:ext cx="74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42920" y="2565360"/>
            <a:ext cx="25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4360" y="2060640"/>
            <a:ext cx="7273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325080" y="4653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26920" y="177336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" dur="1" fill="hold"/>
                                  <p:tgtEl>
                                    <p:spTgt spid="3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9900"/>
                </a:solidFill>
                <a:latin typeface="Arial Black"/>
              </a:rPr>
              <a:t>What are  their</a:t>
            </a:r>
            <a:r>
              <a:rPr b="0" lang="en-NZ" sz="36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en-NZ" sz="3600" spc="-1" strike="noStrike">
                <a:solidFill>
                  <a:srgbClr val="009900"/>
                </a:solidFill>
                <a:latin typeface="Arial Black"/>
              </a:rPr>
              <a:t>enemies</a:t>
            </a: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hunte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250" autoRev="1" fill="hold"/>
                                        <p:tgtEl>
                                          <p:spTgt spid="3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cc"/>
                </a:solidFill>
                <a:latin typeface="Arial Black"/>
              </a:rPr>
              <a:t>How long  they are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Twice  the size of the biggest  ones toda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3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f273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max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23:46:07Z</dcterms:created>
  <dc:creator>room6</dc:creator>
  <dc:description/>
  <dc:language>en-US</dc:language>
  <cp:lastModifiedBy>room6</cp:lastModifiedBy>
  <dcterms:modified xsi:type="dcterms:W3CDTF">2010-05-25T23:42:20Z</dcterms:modified>
  <cp:revision>8</cp:revision>
  <dc:subject/>
  <dc:title>crocodiles</dc:title>
</cp:coreProperties>
</file>