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C204-91E1-42A2-A207-46F4A0AF2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6428-33DD-4768-A065-0032FE5B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35E6-A1A5-497F-AD01-D154EAD12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D417-0527-420B-808E-70B64549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EF02C-2FDB-427A-8E5A-AFE15B50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C009C-EAE5-44A1-AF6C-DEB23734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6642-6655-4749-94A0-1AA5C78B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AF485-E546-4187-A2C3-BC50D164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8739-3210-4442-8168-815CFE9F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2B3A-1AC1-42A7-916A-455722CB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A919-3C0D-489A-8F8E-6469915A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0DD5-2C3A-4436-9B9B-1E7E8D7B1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46E5-7DC3-4840-9C65-9AE62402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1E698-E15C-4413-A071-6E37146B2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55F7-927A-4E09-8FDD-AD4766E6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ECF0-F32D-45B0-8C37-50AF661A0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27E6E-8C92-403D-A7C9-07BB057B6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C7A-39DA-43FD-A9D8-B51DCC73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7BE-6B77-439E-BAFF-4AD31B6B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98F-0EC6-4515-A693-2291DE8A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1BD2-3B61-4DA7-BB68-AA5BCF39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55ED-A1C5-4C24-93D7-1C8AB205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70F9-71C1-4D17-A282-F17C3E90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D91-6A38-4EC4-98A9-CB065876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FC4B-6B6B-4B9F-BA8B-DF85284157E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5D01-B546-4848-93CA-9C795672058D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cc"/>
                </a:solidFill>
                <a:latin typeface="Arial Black"/>
              </a:rPr>
              <a:t>crocodi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max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1672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Where they liv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Near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e1f08"/>
                </a:solidFill>
                <a:latin typeface="Arial Black"/>
              </a:rPr>
              <a:t>What they ea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4400" spc="-1" strike="noStrike">
                <a:solidFill>
                  <a:srgbClr val="ffcc00"/>
                </a:solidFill>
                <a:latin typeface="Arial Black"/>
              </a:rPr>
              <a:t>wildebeest and mamm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ff66"/>
                </a:solidFill>
                <a:latin typeface="Arial Black"/>
              </a:rPr>
              <a:t>5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have tears in there eyes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when they have eate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can be very bi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eat mea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 biggest crocs in the world are saltwater croc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can be blac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2421000"/>
            <a:ext cx="6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2060640"/>
            <a:ext cx="74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42920" y="2565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4360" y="2060640"/>
            <a:ext cx="72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3250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177336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3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9900"/>
                </a:solidFill>
                <a:latin typeface="Arial Black"/>
              </a:rPr>
              <a:t>What are  their</a:t>
            </a:r>
            <a:r>
              <a:rPr b="0" lang="en-NZ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NZ" sz="3600" spc="-1" strike="noStrike">
                <a:solidFill>
                  <a:srgbClr val="009900"/>
                </a:solidFill>
                <a:latin typeface="Arial Black"/>
              </a:rPr>
              <a:t>enemies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unt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cc"/>
                </a:solidFill>
                <a:latin typeface="Arial Black"/>
              </a:rPr>
              <a:t>How long  they are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wice  the size of the biggest  ones to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3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max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3:46:07Z</dcterms:created>
  <dc:creator>room6</dc:creator>
  <dc:description/>
  <dc:language>en-US</dc:language>
  <cp:lastModifiedBy>room6</cp:lastModifiedBy>
  <dcterms:modified xsi:type="dcterms:W3CDTF">2010-05-25T23:42:20Z</dcterms:modified>
  <cp:revision>8</cp:revision>
  <dc:subject/>
  <dc:title>crocodiles</dc:title>
</cp:coreProperties>
</file>