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77C-223A-4B6F-A41F-AD66ECD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EDA-CF76-4714-895E-CCB898F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C18-1C2A-4CCE-BFDB-6CD8D85D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A91-FFFF-44EF-BCDB-37D463B6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F7D-1C3A-4B56-93D6-A32A2DA5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8E22-252F-4629-A651-58ADD189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3DCE-678E-43F6-AA7B-D146881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5A3-62ED-45D5-A24D-8BBA2AD2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B4C-E7FE-4C08-A54B-3923890F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022-2189-42D6-895B-04205F4C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CE19-3992-410E-8347-15C9FE7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8AD-110C-47E3-BAE3-C430B295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FB40-4699-415F-B7E4-57CAD7D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1592-1C0B-4A55-868E-EFA930C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DA3-8EE2-4A47-8694-DB0E97E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571-2159-4697-996A-26E05CE9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3139-CDCB-4C1F-8393-88849949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E78-D691-41FE-952E-7D2A7EC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041-A082-480A-B562-BC56FBF6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DE4-2868-4053-B9BE-018BFF71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24E-70F2-4835-A26A-F813788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BCD-54BF-46FB-95F5-18F4691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4D2-43F1-47B0-9A61-D38DCBA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9BD-1390-4AA9-AFA5-5D9EB1A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CE6-A95B-4547-B934-1BDF913D8B5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92E1-8758-4177-A218-F8B4C05841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Arial Black"/>
              </a:rPr>
              <a:t>crocodi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167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Where they li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Near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e1f08"/>
                </a:solidFill>
                <a:latin typeface="Arial Black"/>
              </a:rPr>
              <a:t>What they ea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4400" spc="-1" strike="noStrike">
                <a:solidFill>
                  <a:srgbClr val="ffcc00"/>
                </a:solidFill>
                <a:latin typeface="Arial Black"/>
              </a:rPr>
              <a:t>wildebeest and mamm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66"/>
                </a:solidFill>
                <a:latin typeface="Arial Black"/>
              </a:rPr>
              <a:t>5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have tears in there eyes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when they have ea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very bi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eat mea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 biggest crocs in the world are saltwater cro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bla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2421000"/>
            <a:ext cx="6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06064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2565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206064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3250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177336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3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What are  their</a:t>
            </a:r>
            <a:r>
              <a:rPr b="0" lang="en-NZ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enemies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cc"/>
                </a:solidFill>
                <a:latin typeface="Arial Black"/>
              </a:rPr>
              <a:t>How long  they a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wice  the size of the biggest  ones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3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46:07Z</dcterms:created>
  <dc:creator>room6</dc:creator>
  <dc:description/>
  <dc:language>en-US</dc:language>
  <cp:lastModifiedBy>room6</cp:lastModifiedBy>
  <dcterms:modified xsi:type="dcterms:W3CDTF">2010-05-25T23:42:20Z</dcterms:modified>
  <cp:revision>8</cp:revision>
  <dc:subject/>
  <dc:title>crocodiles</dc:title>
</cp:coreProperties>
</file>