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FBAC-857B-4F29-9B55-677ED181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2862-FD65-41DB-A429-7F642ADD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C728-9CE2-4E33-8B96-0EAE786B4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942B-5C77-4F8D-B762-C1B34D6B8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D719C-7B9C-4B69-A9ED-413542383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15E8-88B7-4AED-8D6B-CB5DD7656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EFB5D-EFFC-48BE-9494-DFC238E9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35DF-2655-482A-A8F4-568AF507E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B15D-C887-4172-A628-8BE21ED3E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3585A-DEFD-4C6A-A436-E44008E5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46A7-CD45-40B3-8BE9-88EAF495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54EB-BA76-4E24-ACFD-F45C775C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CCF8-439B-4688-B2A5-86565CFB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AF0BB-3919-409B-96A7-C2D49CA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FD85-122C-416E-B8F6-749B4B77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58CE-768A-4B0F-A51B-9DE6188C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359D-C6F5-422F-9C1E-9D945FCE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3FDA-69EF-4B25-9B4D-DA93F771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4F59-13A6-4EA3-AB43-37AEB68B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5DC7-8FC0-4CC2-A642-D36FCF9F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5DB9-9D47-4119-B083-1C1D8C764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2D5E-4135-4792-B8E3-FA5EABD1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6BD0-6CD0-4B15-846B-A0ABDAE6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132-52D1-48BF-A8CA-4815DA8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475F-1AA5-4B4E-A9A7-9238D1D4272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BED4-0CF9-40F6-BE4D-57B8EF35297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crocodile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y  ny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4035600"/>
            <a:ext cx="3708360" cy="2822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516720" y="3548160"/>
            <a:ext cx="2879640" cy="19047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55640" y="0"/>
            <a:ext cx="3203640" cy="2370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hat  do  they  eat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Crocodiles  eat  wildebeest  and ,people  and  mammal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067280" y="4427640"/>
            <a:ext cx="3241440" cy="24303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3900600"/>
            <a:ext cx="3995640" cy="29574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5  Interesting 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16000" y="1916280"/>
            <a:ext cx="6842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  crocodile  can  grow  twice   the size     of  the       biggest  ones   toda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fter  it  eats  a  prey  tears  fall   from  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ocodiles  open  they  mouths to  cool o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Crocodiles  are   the  biggest  repti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NZ" sz="1800" spc="-1" strike="noStrike">
                <a:solidFill>
                  <a:srgbClr val="ffffff"/>
                </a:solidFill>
                <a:latin typeface="Verdana"/>
              </a:rPr>
              <a:t>A crocodile  is  the  smartest  reptile.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508720" y="4807080"/>
            <a:ext cx="3058920" cy="2050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268360" y="4427640"/>
            <a:ext cx="3240360" cy="2430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6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How  long  do  they  gr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Twice  the   size  of   the   biggest   ones   toda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35280" y="2693880"/>
            <a:ext cx="6265800" cy="4164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68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68" fill="hold"/>
                                        <p:tgtEl>
                                          <p:spTgt spid="16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68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ccecff"/>
                </a:solidFill>
                <a:latin typeface="Arial"/>
              </a:rPr>
              <a:t>How long do crocodiles live  for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100 yea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508720" y="4130640"/>
            <a:ext cx="3635280" cy="2727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395280" y="2146320"/>
            <a:ext cx="4968720" cy="4711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68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68" fill="hold"/>
                                        <p:tgtEl>
                                          <p:spTgt spid="1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68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Enem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Big  fish, for young ones and people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4969080" cy="3325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e  en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Verdana"/>
              </a:rPr>
              <a:t>I  like 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777564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37:09Z</dcterms:created>
  <dc:creator>room6</dc:creator>
  <dc:description/>
  <dc:language>en-US</dc:language>
  <cp:lastModifiedBy>room6</cp:lastModifiedBy>
  <dcterms:modified xsi:type="dcterms:W3CDTF">2010-05-05T21:50:15Z</dcterms:modified>
  <cp:revision>8</cp:revision>
  <dc:subject/>
  <dc:title>crcocdiles</dc:title>
</cp:coreProperties>
</file>