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63F-A8A7-4A7F-A6D0-ADCBE9ED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B30-21E4-43D2-A4F9-08CB28E7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DFF-FF72-4D7D-9B3B-0CE3D29B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D84-1661-4CC2-B170-197D910E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C385-B3DA-40B0-B67B-7A094ACE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B370-B2CA-4F4A-A398-E2FE50F5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0B12-B19A-4B1A-AE62-BD0868F7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2647-A949-4B85-8C83-3B76A72B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2198-6ADA-458D-A6A8-64248C72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D6EC-7113-44C5-A1DC-375B0DB4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FFEB-1F14-4BC6-8E05-6F4D0D53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42F-2CCA-4A05-972C-AEC0CBDC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9261-E7BF-44DC-BF8F-E9352781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130C-166F-4DBF-95FA-A4B5BD7A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55AF-3E5E-4EED-B1DE-8C1947FA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3AB9-252A-4DB3-BBE5-16C94848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570F-062C-472A-9829-3E69E7D6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937-6AF6-401C-8902-BAF94227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C5E-4E3A-4874-BF90-08BD0C48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D2F-E85C-4942-848D-6F2AD9D4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B6B-E090-48D6-B412-4558A0C1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CA9-489F-4532-AE41-BEF48AAB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4AA-C48F-471E-8405-12DE0761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A65-BA53-4EEF-BACA-ED41C8B7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54D0-D5F8-40BF-BA12-B1D80E0A647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7F5C-3B04-4E0C-A03A-DCEB75B3AD1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crocodil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y  ny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4035600"/>
            <a:ext cx="3708360" cy="2822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516720" y="3548160"/>
            <a:ext cx="2879640" cy="1904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55640" y="0"/>
            <a:ext cx="3203640" cy="237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at  do  they  e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Crocodiles  eat  wildebeest  and ,people  and  mammal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067280" y="4427640"/>
            <a:ext cx="3241440" cy="243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3900600"/>
            <a:ext cx="3995640" cy="29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5  Interesting 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1916280"/>
            <a:ext cx="6842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  crocodile  can  grow  twice   the size     of  the       biggest  ones   toda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fter  it  eats  a  prey  tears  fall   from 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Crocodiles  open  they  mouths to  cool o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Crocodiles  are   the  biggest  repti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 crocodile  is  the  smartest  reptile.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08720" y="4807080"/>
            <a:ext cx="3058920" cy="2050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68360" y="4427640"/>
            <a:ext cx="3240360" cy="243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How  long  do  they  grow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Twice  the   size  of   the   biggest   ones   to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2693880"/>
            <a:ext cx="6265800" cy="416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68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68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ecff"/>
                </a:solidFill>
                <a:latin typeface="Arial"/>
              </a:rPr>
              <a:t>How long do crocodiles live  for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100 yea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508720" y="413064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95280" y="2146320"/>
            <a:ext cx="4968720" cy="471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Enem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ig  fish, for young ones and people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4969080" cy="332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68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68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The  e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I  like 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77756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3:37:09Z</dcterms:created>
  <dc:creator>room6</dc:creator>
  <dc:description/>
  <dc:language>en-US</dc:language>
  <cp:lastModifiedBy>room6</cp:lastModifiedBy>
  <dcterms:modified xsi:type="dcterms:W3CDTF">2010-05-05T21:50:15Z</dcterms:modified>
  <cp:revision>8</cp:revision>
  <dc:subject/>
  <dc:title>crcocdiles</dc:title>
</cp:coreProperties>
</file>