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68E-E5BD-4CD2-AFC7-3B24D804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853-D5F3-4C38-AF9F-703FA3B5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C90-7E17-4AF6-9F8F-DF302560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005-EC38-49A1-B808-9EA2518C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D108-9C8B-4B7A-8D01-17DAF37D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0524-C48C-40BF-B1B4-096997E5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6BB2-A81F-4002-965D-76170762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211A-6140-426C-833C-C9492C5C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72F6-BE22-4483-9633-DC74CEB7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D656-3587-4B65-9B15-2BE11078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0F89-E523-4F20-9FB8-BD6C80BD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BF1-2EB6-425A-AE62-723B450B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A6B9-001A-4671-9B28-1D4C7452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E09D-AF7A-4303-95D9-870AC1FF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323A-BCD1-40BF-A9EF-A34822E4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9156-9BAE-4FD0-B34F-A9F3E63C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BACB-F7B3-44F7-AE33-69E818B1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BDB-7F54-482F-9AC4-BFEF153E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757-7882-482B-9931-CE61EAB4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986-F5C5-4CA0-9C78-41A4E84B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F26-61F0-4469-A90E-F2161127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F43-5A02-48DB-BBB4-291DF875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05A-E1B2-4941-85D5-57F8AE27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EE9-709B-499C-9938-E403AAE2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882E-4D83-4D06-838C-A565BE4E23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F41D-A3F2-4283-91DE-C81D8B6D40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crocodi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y  ny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4035600"/>
            <a:ext cx="3708360" cy="2822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516720" y="3548160"/>
            <a:ext cx="2879640" cy="1904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55640" y="0"/>
            <a:ext cx="3203640" cy="237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 do  they  e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Crocodiles  eat  wildebeest  and ,people  and  mammal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67280" y="4427640"/>
            <a:ext cx="3241440" cy="243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3900600"/>
            <a:ext cx="3995640" cy="29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5  Interesting 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1916280"/>
            <a:ext cx="684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  crocodile  can  grow  twice   the size     of  the       biggest  ones   tod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fter  it  eats  a  prey  tears  fall   from 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Crocodiles  open  they  mouths to  cool o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Crocodiles  are   the  biggest  repti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 crocodile  is  the  smartest  reptile.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08720" y="4807080"/>
            <a:ext cx="3058920" cy="2050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68360" y="442764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How  long  do  they  gr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Twice  the   size  of   the   biggest   ones   to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2693880"/>
            <a:ext cx="6265800" cy="416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How long do crocodiles live  for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100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508720" y="413064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95280" y="2146320"/>
            <a:ext cx="4968720" cy="471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Enem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ig  fish, for young ones and peopl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4969080" cy="332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he  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I  like 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77756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37:09Z</dcterms:created>
  <dc:creator>room6</dc:creator>
  <dc:description/>
  <dc:language>en-US</dc:language>
  <cp:lastModifiedBy>room6</cp:lastModifiedBy>
  <dcterms:modified xsi:type="dcterms:W3CDTF">2010-05-05T21:50:15Z</dcterms:modified>
  <cp:revision>8</cp:revision>
  <dc:subject/>
  <dc:title>crcocdiles</dc:title>
</cp:coreProperties>
</file>