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5E0D-9D91-4F1A-BDEC-DFFE06E91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B955-4690-458A-912E-5D45B018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D028-21D1-4FA1-9BE3-16F1F23FD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2E8-37F5-42F0-850C-1A8813FE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81ED-E333-4F6C-BC28-CD4776D72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BBAE-DDBA-4EC1-9BA3-489F7E17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54E5-A5D2-41D5-A739-56F762CB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AA5E-F6E9-4A9A-8528-E63AD13B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D366-C539-49C8-AEF4-FFFBE28C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35AC-8FAF-4264-BD4D-8FD19039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FA7A8-C793-4CC5-9A72-0BB153FA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3245-0FD4-49EC-986B-87F0CE06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40FF-E284-4EE0-B837-0AF380F2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5780A-CC32-4A7D-8E4E-02423670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C959-2FCA-4E3B-9866-7765A604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B2D4-00F6-4928-ABDE-2CA799222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29BE-F47C-48F1-AEB1-86EF9428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1B4C-75C4-4288-925A-DFAD45020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BDE-3D1E-48FB-BF8D-5E00BC95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C0C6-5DDC-4809-B034-0A2CBC56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034F-BCA3-483B-A6C5-A90B144B7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C148-F9BF-4CCC-9290-220C6BE1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AC83-952D-4123-B485-3E78BCBC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44B-B05B-469B-B177-E27D2565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042B8-8290-4B90-B1F8-082D3A81650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4A74-08B9-49EC-A7D7-362B4236AB5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crocodi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y  ny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4035600"/>
            <a:ext cx="3708360" cy="2822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516720" y="3548160"/>
            <a:ext cx="2879640" cy="1904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55640" y="0"/>
            <a:ext cx="3203640" cy="237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at  do  they  e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Crocodiles  eat  wildebeest  and ,people  and  mammal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67280" y="4427640"/>
            <a:ext cx="3241440" cy="243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3900600"/>
            <a:ext cx="3995640" cy="29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5  Interesting 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1916280"/>
            <a:ext cx="6842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  crocodile  can  grow  twice   the size     of  the       biggest  ones   tod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fter  it  eats  a  prey  tears  fall   from 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Crocodiles  open  they  mouths to  cool o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Crocodiles  are   the  biggest  repti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 crocodile  is  the  smartest  reptile.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08720" y="4807080"/>
            <a:ext cx="3058920" cy="2050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68360" y="442764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How  long  do  they  gr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Twice  the   size  of   the   biggest   ones   to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2693880"/>
            <a:ext cx="6265800" cy="416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How long do crocodiles live  for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100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508720" y="413064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95280" y="2146320"/>
            <a:ext cx="4968720" cy="471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Enem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ig  fish, for young ones and people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4969080" cy="332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The  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I  like 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77756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3:37:09Z</dcterms:created>
  <dc:creator>room6</dc:creator>
  <dc:description/>
  <dc:language>en-US</dc:language>
  <cp:lastModifiedBy>room6</cp:lastModifiedBy>
  <dcterms:modified xsi:type="dcterms:W3CDTF">2010-05-05T21:50:15Z</dcterms:modified>
  <cp:revision>8</cp:revision>
  <dc:subject/>
  <dc:title>crcocdiles</dc:title>
</cp:coreProperties>
</file>