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BDC2-940E-46DA-85AF-55D990AAD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8086-1AF3-4A58-8D49-C2C66893B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A351-1A75-451B-8F81-D813C1039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257D-3272-4B91-815F-7E0928EA3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78FCC0-B79A-43E6-AF35-B0740D132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DC4F83-F101-47C7-82A0-9B7E77DC3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000B7C-F206-4BD0-A96F-FFED00E45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F00670-6A36-442C-AFC3-E13847FFA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ADA512-4550-47A6-A9C8-5B6E275A1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D55B26-E7BF-411F-8B31-5FB85F325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C19373-81CC-44D0-AD30-16C2AB48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EC4C-565E-491A-9755-DD0ABA04A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B0D6C6-6EF4-45F6-B79B-A04AE160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C992B9-3A53-4255-B019-79F21CE8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FFC98C-206F-491C-82AC-5862C4CE1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1B617E-9F3D-4AFC-BEEB-DD6AF4EFA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71F471-5BCC-4DE7-9B91-AA9619421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E17A-2833-4625-AA56-64E07477B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3ED8-F3C8-423D-8A73-773E599BB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3D21-2B27-4CE5-B926-4B7C9C95E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5388-91C0-4051-BEF1-33F5EBE1C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816B-70FF-4E65-B680-0AC6CF777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F7BB-0E41-45D2-8746-1A770F59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849C-714C-43EB-BDB1-23E775332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8A578-F3FA-4BF0-A0CB-A5873588159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ECE71-96D9-4095-ADDA-1959B5DE205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600" spc="-1" strike="noStrike">
                <a:solidFill>
                  <a:srgbClr val="e3e3ff"/>
                </a:solidFill>
                <a:latin typeface="Arial"/>
              </a:rPr>
              <a:t>Apes</a:t>
            </a:r>
            <a:endParaRPr b="0" lang="en-US" sz="6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By Ani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41964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Where   do    they   live? 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They live in tropical forests in South As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What they eat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They eat  fruit and leav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e3e3ff"/>
                </a:solidFill>
                <a:latin typeface="Arial"/>
              </a:rPr>
              <a:t>What family do they come from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The same animal family as the monkey and they are a mamm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How big are they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They are as big as 2 men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4 Interesting fact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They  need to charge and  bite to  keep saf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They swing  side  to   side to  get foo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They can crawl at two month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After a meal it is time t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rest for Ap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334120" y="3789360"/>
            <a:ext cx="380988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1T23:27:16Z</dcterms:created>
  <dc:creator>room6</dc:creator>
  <dc:description/>
  <dc:language>en-US</dc:language>
  <cp:lastModifiedBy>room6</cp:lastModifiedBy>
  <dcterms:modified xsi:type="dcterms:W3CDTF">2010-06-11T01:33:50Z</dcterms:modified>
  <cp:revision>9</cp:revision>
  <dc:subject/>
  <dc:title>Apes</dc:title>
</cp:coreProperties>
</file>