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2291-17D1-4B34-BCBC-271B042D2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A21B-85E7-444D-ADA6-0526FA7C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810B-052A-4783-9D00-AD5609325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6E9A-4621-4EFB-9DDC-13DE3C85E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29D04C-E8D2-41EE-A7D1-457246A44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471B06-F79F-4E52-86B7-DB0EA450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4283D-7EF0-44DC-A52D-B1FBAEB9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AA9D5-43E9-4638-955D-2A550DD7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630A6-9671-4FB0-9AE8-1BE6B7EE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7B5C8-F2D9-44BF-B80F-B04B28088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BD2E72-EDAB-4707-B74F-7DE6BBC6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A7AC-121D-4225-ABA9-DFD880FA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44137-CACB-4CAC-ACD7-A40C5A25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8B142-84BA-45D3-AAEF-121A081C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40D99-4B7A-4F17-864A-6BC8A80C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C96C7-9F4F-42DA-BF39-7139CBEBC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C2B93-DED5-47C8-9EDA-DD8B7AD6F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2D2E-55E6-43BD-9810-D28CFA2C9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C4FB-4767-41C1-BAD4-F2AB8383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3D11-F776-4E93-BBCC-FFD629542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39D3-7A0A-4157-985E-A1519629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14FF-203D-4599-99CB-EB183F76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3504-DB23-411D-BE91-4F0CE825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CDBD-D27F-4B61-8336-B53E2B17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EE4D2-3BA0-4B2B-98F9-333D5EC198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963E-5139-46F1-B1DE-EC06D8E61E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e3e3ff"/>
                </a:solidFill>
                <a:latin typeface="Arial"/>
              </a:rPr>
              <a:t>Apes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By Anik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1964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Where   do    they   live? 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y live in tropical forests in South As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What they eat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y eat  fruit and leav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e3e3ff"/>
                </a:solidFill>
                <a:latin typeface="Arial"/>
              </a:rPr>
              <a:t>What family do they come from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 same animal family as the monkey and they are a mamm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How big are they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y are as big as 2 men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e3e3ff"/>
                </a:solidFill>
                <a:latin typeface="Arial"/>
              </a:rPr>
              <a:t>4 Interesting fact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y  need to charge and  bite to  keep saf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y swing  side  to   side to  get foo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y can crawl at two month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After a meal it is time to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rest for Ap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34120" y="3789360"/>
            <a:ext cx="380988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23:27:16Z</dcterms:created>
  <dc:creator>room6</dc:creator>
  <dc:description/>
  <dc:language>en-US</dc:language>
  <cp:lastModifiedBy>room6</cp:lastModifiedBy>
  <dcterms:modified xsi:type="dcterms:W3CDTF">2010-06-11T01:33:50Z</dcterms:modified>
  <cp:revision>9</cp:revision>
  <dc:subject/>
  <dc:title>Apes</dc:title>
</cp:coreProperties>
</file>