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168-79BB-400A-89BB-9C593021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07A-87A6-4503-A9C5-EAA50799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91E-90F3-4718-A72A-D5473820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41B-0579-432C-AD6B-673975A3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D04FC-37F9-4E46-9B18-95048F73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0B21F-829E-42E6-9F57-C51026BE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75B6F-5598-4F5A-95CE-5193AD0F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2228E-A90F-4640-85B9-086C5F9E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F1692-7FD2-4A30-B69D-8EEA1C3C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4E2E0-44B9-4D83-854E-B1E46C27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DD67F-A629-475E-992A-4F26E1A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2C8-2C97-4233-83D5-E6169F4A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3FEDE-5F04-484E-A060-B4E24F49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EE4F8-1CE6-4902-A660-E8A87AD2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23964-F7EC-44E7-B874-C6D2AF91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647F0-9092-4CFF-A961-F7CD2D6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D3A95-AC7D-49DF-ACC5-A7B568B2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9F8-9F2B-4E77-8630-9922E685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E81-2E69-4A37-BB9F-B71FB6DB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498-AC50-44E4-8BBE-B0C0CF7B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131-3386-4A99-8AEC-ACD0DA72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B70-9F98-4B2F-814B-53A6448C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20E-3C01-418B-BF97-DDA0A76D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9B4-0359-4F38-90F2-1C02774C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8023-28A1-431A-ADD2-D4B5A345EB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EA17-0955-4F2B-85FA-CA96ED4882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e3e3ff"/>
                </a:solidFill>
                <a:latin typeface="Arial"/>
              </a:rPr>
              <a:t>Ape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A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here   do    they   live?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live in tropical forests in South A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hat they eat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eat  fruit and lea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What family do they come from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same animal family as the monkey and they are a mamm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ow big are the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are as big as 2 me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4 Interesting f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 need to charge and  bite to  keep saf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swing  side  to   side to  ge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can crawl at two month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fter a meal it is time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est for A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4120" y="3789360"/>
            <a:ext cx="3809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3:27:16Z</dcterms:created>
  <dc:creator>room6</dc:creator>
  <dc:description/>
  <dc:language>en-US</dc:language>
  <cp:lastModifiedBy>room6</cp:lastModifiedBy>
  <dcterms:modified xsi:type="dcterms:W3CDTF">2010-06-11T01:33:50Z</dcterms:modified>
  <cp:revision>9</cp:revision>
  <dc:subject/>
  <dc:title>Apes</dc:title>
</cp:coreProperties>
</file>