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9C39-815B-47E8-BC39-F5219DB34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93DA-2E72-4138-B9AD-BE9DF6038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A045-A2F5-4BF6-84B3-1ADA7FFFD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DBB3-7396-4E44-BAD2-4D7CB6ADF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427644-0B6B-41CF-A08D-F10235766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B04E6E-F6CB-41EB-8F93-1B5BE6098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3BA806-641F-44FF-998B-603B38D4E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CF7124-4E4C-4DCF-B4D8-041078CC7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0126D8-4518-43A7-AB75-CDEC1B721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9FA419-3C4A-4459-9D0A-7FF273F1B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33F39D-C40C-4706-8BD0-19A0CE7A4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811F-9183-4A10-A9D8-911CF0CF8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6081B5-CA8D-4EE2-A224-83D952217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247CFA-F286-4961-BF82-5D185293D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7B4DD6-5AF6-49CC-B694-0E0543125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5B0EFE-4408-475A-895C-35D5DDD4C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A4D84B-A9FA-4623-B7F2-E7FDF6842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AFAF-2E97-4990-A0E4-36711E79C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4167-2BB9-4653-B002-F6F5B4C75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3711-C99F-4ECB-BA3B-CC3D535F9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FDCF-4F2F-49B7-9891-8E1D730F2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C1AA-40CC-4D90-9BA6-F25925A4C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1387-EAFE-4211-AC73-7CE713FC0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9941-872B-4B70-A15E-A52F27A4F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B9023-F1A5-438C-9275-4021347A000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F6BEF-F1BA-46C5-8176-7FF760C6AD9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600" spc="-1" strike="noStrike">
                <a:solidFill>
                  <a:srgbClr val="e3e3ff"/>
                </a:solidFill>
                <a:latin typeface="Arial"/>
              </a:rPr>
              <a:t>Apes</a:t>
            </a:r>
            <a:endParaRPr b="0" lang="en-US" sz="6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By Anik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41964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e3e3ff"/>
                </a:solidFill>
                <a:latin typeface="Arial"/>
              </a:rPr>
              <a:t>Where   do    they   live? 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They live in tropical forests in South Asi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e3e3ff"/>
                </a:solidFill>
                <a:latin typeface="Arial"/>
              </a:rPr>
              <a:t>What they eat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They eat  fruit and leav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e3e3ff"/>
                </a:solidFill>
                <a:latin typeface="Arial"/>
              </a:rPr>
              <a:t>What family do they come from?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The same animal family as the monkey and they are a mamm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e3e3ff"/>
                </a:solidFill>
                <a:latin typeface="Arial"/>
              </a:rPr>
              <a:t>How big are they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They are as big as 2 men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e3e3ff"/>
                </a:solidFill>
                <a:latin typeface="Arial"/>
              </a:rPr>
              <a:t>4 Interesting fact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They  need to charge and  bite to  keep saf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They swing  side  to   side to  get food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They can crawl at two month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After a meal it is time t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rest for Ap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5334120" y="3789360"/>
            <a:ext cx="380988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1T23:27:16Z</dcterms:created>
  <dc:creator>room6</dc:creator>
  <dc:description/>
  <dc:language>en-US</dc:language>
  <cp:lastModifiedBy>room6</cp:lastModifiedBy>
  <dcterms:modified xsi:type="dcterms:W3CDTF">2010-06-11T01:33:50Z</dcterms:modified>
  <cp:revision>9</cp:revision>
  <dc:subject/>
  <dc:title>Apes</dc:title>
</cp:coreProperties>
</file>