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310D-C4E1-494B-B6F8-C4533B52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6B3A-5138-418F-96DE-E27FA6F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A7A4-7047-4E84-862B-2DCF661C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BF3F-26B1-4DDF-A936-BE394340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B80-22BD-4E27-AE88-D905C253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6231-2759-4D6A-B633-50230737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33AF-F0AF-40FB-AF87-83F04BB7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CB9C-A54E-4D59-AD0D-BE92352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C55F-24A3-4F87-A6D8-BE4DE26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2CE9-5667-4040-A9C8-59EF082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242B-DDE5-4299-881F-EE42019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B175-AA47-44D8-924E-FDF3565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5290-CE9E-4788-BD98-A50AA6F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45A0-2EFD-4DB7-8C30-D90E64E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B409-EC27-4775-ABB9-E2A2C35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975C-A377-4E75-89C1-6FA2C166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17C-8106-4268-9BB2-6C05E615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7532-1ED1-4086-A5EA-412F25D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4FE6-10EA-47DE-9D43-5B6005E1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D538-1E59-4A8E-A47A-3F9933A1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6274-4E8A-4D99-ADBB-4BFC3083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6404-A806-4EDA-9F04-A11BA67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8EE1-13D1-4F3F-A0FF-2D5857A0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9257-F8A3-4272-8455-6952E66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BF1-5ECA-4EEC-9403-62E155A80B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6F2-5BA5-43BF-9D47-E934B19535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e5e5ff"/>
                </a:solidFill>
                <a:latin typeface="Garamond"/>
              </a:rPr>
              <a:t>Wolve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By Har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wolv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eat meat on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967280" cy="378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olves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b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337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wolv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ntar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514836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How they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rip with their fa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500364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589680"/>
            <a:ext cx="76550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e5e5ff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Garamond"/>
              </a:rPr>
              <a:t>Four interesting facts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fs can grow up to 30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be all sorts of colours like white, black, br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can grow up to 26 to 32 inch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live 13 years in the wild.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Garamond"/>
              </a:rPr>
              <a:t>by Harry.R</a:t>
            </a: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NZ" sz="8800" spc="-1" strike="noStrike">
                <a:solidFill>
                  <a:srgbClr val="ffffff"/>
                </a:solidFill>
                <a:latin typeface="Garamond"/>
              </a:rPr>
              <a:t>The end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37:37Z</dcterms:created>
  <dc:creator>Michelle</dc:creator>
  <dc:description/>
  <dc:language>en-US</dc:language>
  <cp:lastModifiedBy>room6</cp:lastModifiedBy>
  <dcterms:modified xsi:type="dcterms:W3CDTF">2010-05-05T22:22:41Z</dcterms:modified>
  <cp:revision>5</cp:revision>
  <dc:subject/>
  <dc:title>Wolves</dc:title>
</cp:coreProperties>
</file>