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5610-DA82-4337-9F78-576CE6D1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5E0C5-C951-4355-A190-96C85D7E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2D1F-06CF-4E46-926A-CDAE110B9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CB5A7-F577-42A8-8FAB-11C3840EC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6386-48A6-4EBE-A287-3E9FC194E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8DA1C-09DE-48BF-960A-846FCE02A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F60F-9B11-4FAA-B4E4-11E6E06B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F5BC-AC1B-436B-8A56-72FFBA85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443C-2924-474F-BA15-5ED521C1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955B-2365-4704-AE40-4E50884A8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74D2-292E-423E-B94D-314C98768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88F03-3BFE-425D-A5BE-2DF89A7E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71C5-C7EA-4EC2-9995-CB8EC9B0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0772-3B5A-4531-AC5F-28145B53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7904-1567-423E-A405-B708584A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95C5E-0D4D-403A-9C46-85AE8CF9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2537B-6E79-4269-905D-50FC45B5B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08BF-E4D7-4463-99B7-15537FD7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0A6AF-9A03-49B5-9B5B-77B6DA19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E072-4758-4912-AE9D-E0756C2F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9E551-7FF2-4C5A-9B0B-23D3FE8C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1AF43-CB0E-47C7-A625-723BC64B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07F23-C39C-49F4-A820-8E131E54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A7CA2-680F-423A-98B7-3BA3114B3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A17B5-4F29-431F-8E38-C8232A483E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0E9CA-E1A9-49AA-BB1B-7D403124928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e5e5ff"/>
                </a:solidFill>
                <a:latin typeface="Garamond"/>
              </a:rPr>
              <a:t>Wolves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 Black"/>
              </a:rPr>
              <a:t>By Harr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at wolves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ves eat meat onl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967280" cy="378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olves enemi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bea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NZ" sz="3200" spc="-1" strike="noStrike">
                <a:solidFill>
                  <a:srgbClr val="ffffff"/>
                </a:solidFill>
                <a:latin typeface="Arial Black"/>
              </a:rPr>
              <a:t>hunt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11280" y="2205000"/>
            <a:ext cx="6337440" cy="41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Where wolves liv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Can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Antartic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Russi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995640" y="2781360"/>
            <a:ext cx="514836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6" dur="indefinite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0" dur="indefinite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74" dur="indefinite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e5e5ff"/>
                </a:solidFill>
                <a:latin typeface="Garamond"/>
              </a:rPr>
              <a:t>How they e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rip with their fang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140360" y="2924280"/>
            <a:ext cx="5003640" cy="3933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-589680"/>
            <a:ext cx="7655040" cy="30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e5e5ff"/>
              </a:solidFill>
              <a:latin typeface="Bodoni MT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16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ffff"/>
                </a:solidFill>
                <a:latin typeface="Garamond"/>
              </a:rPr>
              <a:t>Four interesting facts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fs can grow up to 30 teet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can be all sorts of colours like white, black, brow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Wolves can grow up to 26 to 32 inche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They can live 13 years in the wild.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NZ" sz="3600" spc="-1" strike="noStrike">
                <a:solidFill>
                  <a:srgbClr val="ffffff"/>
                </a:solidFill>
                <a:latin typeface="Garamond"/>
              </a:rPr>
              <a:t>by Harry.R</a:t>
            </a:r>
            <a:r>
              <a:rPr b="0" lang="en-NZ" sz="7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NZ" sz="8800" spc="-1" strike="noStrike">
                <a:solidFill>
                  <a:srgbClr val="ffffff"/>
                </a:solidFill>
                <a:latin typeface="Garamond"/>
              </a:rPr>
              <a:t>The end.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67280" y="2565360"/>
            <a:ext cx="5076720" cy="42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3T07:37:37Z</dcterms:created>
  <dc:creator>Michelle</dc:creator>
  <dc:description/>
  <dc:language>en-US</dc:language>
  <cp:lastModifiedBy>room6</cp:lastModifiedBy>
  <dcterms:modified xsi:type="dcterms:W3CDTF">2010-05-05T22:22:41Z</dcterms:modified>
  <cp:revision>5</cp:revision>
  <dc:subject/>
  <dc:title>Wolves</dc:title>
</cp:coreProperties>
</file>