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74569-5104-4328-9D29-27C804A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C8D27-440F-4A8A-B9B7-183355C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F781D-21BF-4837-8401-0EE3705B1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523F-C7E5-44C4-82FF-66EF06EAF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DEFA5-936B-40F0-9FEA-B9C2BF04C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642AC-F25D-4186-8F79-B8105176D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0E54F-1B1E-4D99-9038-12D9B3FA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18B5D-F891-4B79-8782-09C4AC1F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30E76-5C32-4BAA-8A5B-788BA28A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F221-98A7-4226-8625-E31F89632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405E-8F7A-4625-A968-BE8DDB28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62E50-240F-4C6B-B6F0-EB810DCF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FF0FA-582D-4730-9427-F1C83167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4F10-EA2A-4FAC-B654-78BC0FD3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7222-5868-4E0E-AA16-F922DBCC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1CC1-188F-4354-BC85-963F87B5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5015-A256-4884-91CF-4ED2D3A9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E1926-4ED7-43B2-B08F-32730FC85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5F816-C40F-42DB-B1DE-703409E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422F6-01CC-4FC1-BE38-7E226C12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C753F-6523-4A93-843C-D46A89BE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3D89B-1D21-459E-B0A5-465A450B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0EC1E-CF4B-4EEF-91F2-EBEDC6AF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4BAD-2106-4A3E-9820-25FD900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E5A6D-BC81-4D91-BD28-DD90841D16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F61C-ACDD-465C-819A-29CD1B08B5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e5e5ff"/>
                </a:solidFill>
                <a:latin typeface="Garamond"/>
              </a:rPr>
              <a:t>Wolve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By Har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wolv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eat meat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967280" cy="378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olves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b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337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wolv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ntar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514836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How they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rip with their fa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50036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589680"/>
            <a:ext cx="76550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5e5ff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Garamond"/>
              </a:rPr>
              <a:t>Four interesting fact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fs can grow up to 30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be all sorts of colours like white, black, br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can grow up to 26 to 32 inch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live 13 years in the wild.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Garamond"/>
              </a:rPr>
              <a:t>by Harry.R</a:t>
            </a: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NZ" sz="8800" spc="-1" strike="noStrike">
                <a:solidFill>
                  <a:srgbClr val="ffffff"/>
                </a:solidFill>
                <a:latin typeface="Garamond"/>
              </a:rPr>
              <a:t>The end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7:37Z</dcterms:created>
  <dc:creator>Michelle</dc:creator>
  <dc:description/>
  <dc:language>en-US</dc:language>
  <cp:lastModifiedBy>room6</cp:lastModifiedBy>
  <dcterms:modified xsi:type="dcterms:W3CDTF">2010-05-05T22:22:41Z</dcterms:modified>
  <cp:revision>5</cp:revision>
  <dc:subject/>
  <dc:title>Wolves</dc:title>
</cp:coreProperties>
</file>