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293DC-5206-48DA-93CF-A3A7B48A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9B525-0D8A-47F3-814D-ADE32DDC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B0AAB-B9DF-4F61-8941-DC7B6087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09B46-CA34-44EF-83F3-BB4C6877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BC7F-93BE-406B-B570-1F955FAB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BCDF-616A-4E93-96BE-44CE980C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9A8F-ACE4-4AAC-873F-4C811EA6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7CE2-D1C8-4862-B04E-55DCBEFC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A7E2-1A1F-4444-9E3B-87147091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2D59-A53A-4216-8755-607B354B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900E-9D7F-4BD7-8810-14528F75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4F829-A266-4B4D-9F69-A15AD33C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C209-AFB4-4D5B-A8A5-4CB53C9D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AA54-7CA8-4458-B8EB-4722318A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2228-320F-4933-84CE-11A17ED3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7562-98F9-4C59-8E36-5C85231F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0988-389E-4131-9F4B-EDCC29FA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F449C-2E8B-4EF4-808C-164DCA8A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09A5B-3B5F-428F-852A-2387A06F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FCFE4-43E9-49A6-95F7-6853BB59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C7529-C6F0-4512-8C1A-C33EB719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F4367-7826-49CB-AEF8-A2AD7905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8D1B9-ED33-48DB-A59D-7E536148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E78B4-5C60-4001-BA8B-4EBFA4C4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32D0-3157-46A9-A26C-F553844989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9CD3-89C2-4DD2-858B-25F4F43E7A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e5e5ff"/>
                </a:solidFill>
                <a:latin typeface="Garamond"/>
              </a:rPr>
              <a:t>Wolves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92360" y="4436640"/>
            <a:ext cx="64008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By Har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at wolves e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Wolves eat meat on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967280" cy="378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68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68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olves enem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 Black"/>
              </a:rPr>
              <a:t>b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 Black"/>
              </a:rPr>
              <a:t>hun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633744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ere wolves l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Cana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Antarti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Rus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5148360" cy="40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How they e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rip with their fan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40360" y="2924280"/>
            <a:ext cx="500364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-589680"/>
            <a:ext cx="765504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e5e5ff"/>
              </a:solidFill>
              <a:latin typeface="Bodoni MT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ffff"/>
                </a:solidFill>
                <a:latin typeface="Garamond"/>
              </a:rPr>
              <a:t>Four interesting facts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Wolfs can grow up to 30 tee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can be all sorts of colours like white, black, brow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Wolves can grow up to 26 to 32 inch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can live 13 years in the wild.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NZ" sz="3600" spc="-1" strike="noStrike">
                <a:solidFill>
                  <a:srgbClr val="ffffff"/>
                </a:solidFill>
                <a:latin typeface="Garamond"/>
              </a:rPr>
              <a:t>by Harry.R</a:t>
            </a:r>
            <a:r>
              <a:rPr b="0" lang="en-NZ" sz="7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NZ" sz="8800" spc="-1" strike="noStrike">
                <a:solidFill>
                  <a:srgbClr val="ffffff"/>
                </a:solidFill>
                <a:latin typeface="Garamond"/>
              </a:rPr>
              <a:t>The end.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067280" y="2565360"/>
            <a:ext cx="507672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7:37:37Z</dcterms:created>
  <dc:creator>Michelle</dc:creator>
  <dc:description/>
  <dc:language>en-US</dc:language>
  <cp:lastModifiedBy>room6</cp:lastModifiedBy>
  <dcterms:modified xsi:type="dcterms:W3CDTF">2010-05-05T22:22:41Z</dcterms:modified>
  <cp:revision>5</cp:revision>
  <dc:subject/>
  <dc:title>Wolves</dc:title>
</cp:coreProperties>
</file>