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DA80-9919-4321-B763-C6350356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E55C-89BC-4ED9-ABD9-2234F113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C8DD-E6CA-447C-B1B7-71644A62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CC00-1F06-48EF-BB81-A44A5B8E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503B-8B4D-4EE9-B536-4A92FF7E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9A69-6001-4D5C-BF23-75E6E54B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879B-5E3A-40AE-A3B1-1ED8F299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C5EE-3B76-4F35-8412-444A8495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152D-25EF-4609-BDA1-AA618965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1715-FE08-4161-B2D1-539A5060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3506-2AF3-41EA-9AED-A6C138FD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2AB-5876-47F4-9E8B-28548C47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FEAE-9CDD-4BE3-9156-8052481D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A560-ED02-4588-93D6-CB46BAD0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556C-D4D1-4C1F-B2D4-2B7513E5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8921-35D0-4167-98B1-1A6405D3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B983-1AE9-4960-8E30-67709338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AC20-FF53-4327-BEB0-461FDB5B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EC6F-6C5D-4361-8F25-1B48FBAB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04B5-878E-4E55-82B5-228ADF07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826B-5993-4658-9B19-B00F402E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2511-6426-4BB4-AB26-B97CB616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A06B-C7A9-45D6-A2D5-85D3D039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F856-8E82-433F-8F3C-19CE15C3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737E-0ABD-4918-9498-0C2F79377034}" type="slidenum"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800D-EF86-449B-86C0-7CCB0D17D5D7}" type="slidenum"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ff00"/>
                </a:solidFill>
                <a:latin typeface="Arial"/>
              </a:rPr>
              <a:t>Wolves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5b2ff"/>
                </a:solidFill>
                <a:latin typeface="Arial"/>
              </a:rPr>
              <a:t>By Flyn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384360" cy="2374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3381480" cy="2808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643280" y="189000"/>
            <a:ext cx="4062600" cy="251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00"/>
                </a:solidFill>
                <a:latin typeface="Arial"/>
              </a:rPr>
              <a:t>What are their enemie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ff00"/>
                </a:solidFill>
                <a:latin typeface="Arial"/>
              </a:rPr>
              <a:t>There enemies are Bears and peo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716360" y="2492280"/>
            <a:ext cx="3905280" cy="3800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00"/>
                </a:solidFill>
                <a:latin typeface="Arial"/>
              </a:rPr>
              <a:t>Were do they liv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ff00"/>
                </a:solidFill>
                <a:latin typeface="Arial"/>
              </a:rPr>
              <a:t>Wolves live in Canada/Russia and Alask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6039000" cy="3095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547640" y="2349360"/>
            <a:ext cx="640908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00"/>
                </a:solidFill>
                <a:latin typeface="Arial"/>
              </a:rPr>
              <a:t>Wolves eating a de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50920" y="1341360"/>
            <a:ext cx="8621640" cy="5516640"/>
            <a:chOff x="250920" y="1341360"/>
            <a:chExt cx="8621640" cy="5516640"/>
          </a:xfrm>
        </p:grpSpPr>
        <p:pic>
          <p:nvPicPr>
            <p:cNvPr id="227" name="" descr=""/>
            <p:cNvPicPr/>
            <p:nvPr/>
          </p:nvPicPr>
          <p:blipFill>
            <a:blip r:embed="rId1"/>
            <a:stretch/>
          </p:blipFill>
          <p:spPr>
            <a:xfrm>
              <a:off x="250920" y="1341360"/>
              <a:ext cx="8621640" cy="551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 txBox="1"/>
            <p:nvPr/>
          </p:nvSpPr>
          <p:spPr>
            <a:xfrm>
              <a:off x="250920" y="1341360"/>
              <a:ext cx="8621640" cy="5516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68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68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00"/>
                </a:solidFill>
                <a:latin typeface="Arial"/>
              </a:rPr>
              <a:t>My five Interesting Fa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olves have over 30 teeth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olves can live up to 13 years in the wil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olves can weigh over 175 poun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olves can grow up to 26 and 32 inch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olves  can be smaller than a cat.      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Baby Wol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5760" y="1598760"/>
            <a:ext cx="82263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Thank You  By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487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23:27:11Z</dcterms:created>
  <dc:creator>room6</dc:creator>
  <dc:description/>
  <dc:language>en-US</dc:language>
  <cp:lastModifiedBy>room6</cp:lastModifiedBy>
  <dcterms:modified xsi:type="dcterms:W3CDTF">2010-05-20T00:29:08Z</dcterms:modified>
  <cp:revision>16</cp:revision>
  <dc:subject/>
  <dc:title>Wolves</dc:title>
</cp:coreProperties>
</file>