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6C3C-B20B-4A4B-B400-13E1A848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68A-3DEB-4808-B589-9F3605BF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D9BB-2856-4B93-94E6-E092F2C68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4EAF-4E88-4EC6-86D6-777422D4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690C-C6AC-4169-AA1F-085C32A79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F7CA-E14C-45A5-88B1-B0BE5CFD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3FE3-D41D-48EE-AE98-2A1CEEF7D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50F5-B576-4ED8-A311-08D729476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C057C-9FBC-46CB-B83B-725C77FE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DB42A-A1B7-4CA3-BC7F-BA411E6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52974-8875-4D6E-878A-A95E41DD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9CAE-B43D-48FE-B47D-BF63A3BE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B9F6-1E49-4292-A350-0CDAB776E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F48FA-2AB1-4317-8084-AEFD2EB68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FC17-DE44-4728-9F01-626B54D6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C81-69EF-4BD0-BC69-74633B9F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1FE91-92FA-4C6A-92B9-200E2BEAA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1DE2-8193-4A8F-93E6-FAE1468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EC7-AD3F-45BB-8E16-CAD0B871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3864-BB0F-4A74-8F88-75E1335B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51C-813B-4DDE-8765-D04707D0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36B-444E-4204-BDE5-BF3D01FB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503-3EEE-44A8-AC71-A6CAECC3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6D5-0E35-4A5E-B328-9A06237C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1D39-A2B8-4DBF-8386-107A013EE469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2469-530A-4296-AD6E-C6867BFA51DA}" type="slidenum">
              <a:rPr b="0" lang="en-GB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00ff00"/>
                </a:solidFill>
                <a:latin typeface="Arial"/>
              </a:rPr>
              <a:t>Wolves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65b2ff"/>
                </a:solidFill>
                <a:latin typeface="Arial"/>
              </a:rPr>
              <a:t>By Flyn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3384360" cy="23749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95280" y="3860640"/>
            <a:ext cx="3381480" cy="28083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4643280" y="189000"/>
            <a:ext cx="4062600" cy="251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21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hat are their enemie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There enemies are Bears and peop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79280" y="2852640"/>
            <a:ext cx="3810240" cy="28576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4716360" y="2492280"/>
            <a:ext cx="3905280" cy="3800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2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ere do they liv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ff00"/>
                </a:solidFill>
                <a:latin typeface="Arial"/>
              </a:rPr>
              <a:t>Wolves live in Canada/Russia and Alaska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6039000" cy="3095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547640" y="2349360"/>
            <a:ext cx="640908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Wolves eating a dee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250920" y="1341360"/>
            <a:ext cx="8621640" cy="5516640"/>
            <a:chOff x="250920" y="1341360"/>
            <a:chExt cx="8621640" cy="55166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250920" y="1341360"/>
              <a:ext cx="8621640" cy="551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 txBox="1"/>
            <p:nvPr/>
          </p:nvSpPr>
          <p:spPr>
            <a:xfrm>
              <a:off x="250920" y="1341360"/>
              <a:ext cx="8621640" cy="5516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ff00"/>
                </a:solidFill>
                <a:latin typeface="Arial"/>
              </a:rPr>
              <a:t>My five Interesting Fac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have over 30 teeth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live up to 13 years in the wil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weigh over 175 poun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can grow up to 26 and 32 inch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olves  can be smaller than a cat.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Baby Wol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455760" y="1598760"/>
            <a:ext cx="82263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Thank You  By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874872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23:27:11Z</dcterms:created>
  <dc:creator>room6</dc:creator>
  <dc:description/>
  <dc:language>en-US</dc:language>
  <cp:lastModifiedBy>room6</cp:lastModifiedBy>
  <dcterms:modified xsi:type="dcterms:W3CDTF">2010-05-20T00:29:08Z</dcterms:modified>
  <cp:revision>16</cp:revision>
  <dc:subject/>
  <dc:title>Wolves</dc:title>
</cp:coreProperties>
</file>