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C1B6-30DD-4D4F-AB16-6302172BF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2B49-B761-467B-B57D-27AECEE2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BD6-C253-4CD9-829E-7820BC116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D175-F252-4217-9C61-D558FDBB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8F445-7A14-4F22-AC0C-1F298A5F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27AB1-A65E-4212-BE89-EBA2E8BB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B8B6-586A-4FDA-BE95-319C809EE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73FB-2CFB-4F37-87D2-BCE79B77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96FF-922F-4DDC-83D5-95CD42CF5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6383D-7B41-4AA9-A785-03C8AE34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6BC2-8C9C-4AD9-B30C-D757B444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5747-EA88-4D3E-B41A-F2F63EBF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96875-7480-4CAB-A6C7-843F6C208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A6149-DF62-4230-8BF1-73640BF8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78D0-D3D7-4B8A-900B-69580801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44BA-62AA-42B9-B358-E117115C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04E2-7330-4FBA-BA61-1A7B2ACB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1157-C637-4DF7-89AF-38A7B2DF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2F78-1A48-477C-B350-FE6FE55FA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F021-E6B6-4275-9771-B4490E08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1AA-D969-4C1D-8251-E33F4E18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FE8-158C-417F-8ABC-5E1E0363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6025-4F87-40B9-8FCC-3B33B6B3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838B-9EBD-4C01-9C93-808C8413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5A3F-3756-414C-BB69-17D75DA511DF}" type="slidenum"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58800-60A2-4C33-A760-75290BB171C3}" type="slidenum"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ff00"/>
                </a:solidFill>
                <a:latin typeface="Arial"/>
              </a:rPr>
              <a:t>Wolves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5b2ff"/>
                </a:solidFill>
                <a:latin typeface="Arial"/>
              </a:rPr>
              <a:t>By Flyn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384360" cy="2374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381480" cy="2808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643280" y="189000"/>
            <a:ext cx="4062600" cy="25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What are their enemi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Arial"/>
              </a:rPr>
              <a:t>There enemies are Bears and peo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716360" y="2492280"/>
            <a:ext cx="3905280" cy="380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Were do they liv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Arial"/>
              </a:rPr>
              <a:t>Wolves live in Canada/Russia and Alask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6039000" cy="3095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409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Wolves eating a de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0920" y="1341360"/>
            <a:ext cx="8621640" cy="5516640"/>
            <a:chOff x="250920" y="1341360"/>
            <a:chExt cx="8621640" cy="551664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250920" y="1341360"/>
              <a:ext cx="8621640" cy="55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 txBox="1"/>
            <p:nvPr/>
          </p:nvSpPr>
          <p:spPr>
            <a:xfrm>
              <a:off x="250920" y="1341360"/>
              <a:ext cx="8621640" cy="551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My five Interesting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have over 30 teeth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can live up to 13 years in the wi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can weigh over 175 poun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can grow up to 26 and 32 inch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 can be smaller than a cat.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Baby Wol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5760" y="1598760"/>
            <a:ext cx="8226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Thank You  By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48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3:27:11Z</dcterms:created>
  <dc:creator>room6</dc:creator>
  <dc:description/>
  <dc:language>en-US</dc:language>
  <cp:lastModifiedBy>room6</cp:lastModifiedBy>
  <dcterms:modified xsi:type="dcterms:W3CDTF">2010-05-20T00:29:08Z</dcterms:modified>
  <cp:revision>16</cp:revision>
  <dc:subject/>
  <dc:title>Wolves</dc:title>
</cp:coreProperties>
</file>