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F59-BCF1-4751-A7AF-24D2C5BD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506-E758-4491-AF0C-74D2A724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55C-EBDA-4470-A673-76EAFAA6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5CE-0431-403D-B72F-F000E6A7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87C1-F39B-4F7E-9CA7-9790E7F7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8B79-2BED-40AF-A4CF-B49FAC97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2329-76E3-4C28-A556-5766EC8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898A-E4C4-4EAC-9AA9-9ACC5368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E1F-89E0-4F95-866A-85A8CCA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328-57EC-41DE-BDED-D95A0ED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0250-F888-4E29-B5D7-C0A8F51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34E-CD84-44C7-A56F-D7EBB01A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FA49-B492-4AD8-BA84-E3F844AA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D592-2A49-4633-86E3-AC55ABA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479-E753-46B3-918D-DB9CA1C0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A19D-5FE6-40C5-A0AB-05C89B98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60A-9FA3-4A27-893B-9A133A43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842-A58A-4D81-A011-1832355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441-9135-4531-8D25-A7CE7FB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1EC-A8D4-4DAF-871F-EBCC15C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72F-C086-4592-9956-ECAECADC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180-869B-4FA0-8601-CC4187C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CEB-4381-4D97-8D04-27DFCE5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E19-6D96-4BF2-9D95-1217688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67A-EB5A-4A77-9A32-E0E89A06D242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19B-9D1C-4ADC-B5BA-AAF985C4E1BA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ff00"/>
                </a:solidFill>
                <a:latin typeface="Arial"/>
              </a:rPr>
              <a:t>Wolve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5b2ff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3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3814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406260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There enemies are Bears and peo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905280" cy="38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ere do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Wolves live in Canada/Russia and Alask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039000" cy="309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409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olves eating a de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0920" y="1341360"/>
            <a:ext cx="8621640" cy="5516640"/>
            <a:chOff x="250920" y="1341360"/>
            <a:chExt cx="8621640" cy="55166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86216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 txBox="1"/>
            <p:nvPr/>
          </p:nvSpPr>
          <p:spPr>
            <a:xfrm>
              <a:off x="250920" y="1341360"/>
              <a:ext cx="86216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My five 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have over 30 teeth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live up to 13 years in the wi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weigh over 175 poun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grow up to 26 and 32 inch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 can be smaller than a cat.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aby Wol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ank You  By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48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20T00:29:08Z</dcterms:modified>
  <cp:revision>16</cp:revision>
  <dc:subject/>
  <dc:title>Wolves</dc:title>
</cp:coreProperties>
</file>