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D59E-05A0-42EF-A959-F0D0938EC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88FF-71FB-4CCD-8D81-0F3D13FDE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1E41-7843-49F2-82C7-48A70728A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50DF-CDEC-47B4-947C-1D5118399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C07A-55AA-4A47-ABFA-DF08F8AC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38DC-1BFE-48FD-9310-ED85EA57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34B35-79F6-441E-8542-B20820CD2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601BF-BF4F-40D0-82A5-DB6DE708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8320-4A8F-4C30-A40A-613CFC4F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3677F-9954-4CC5-9A9B-55994656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0B0C6-36C3-4CA7-A0FF-46C16322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7C7-4DB5-4A9E-A2F5-CFE1CD81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8B5BD-C2E8-414B-A2CB-B8E26880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8E28-F5FD-44D0-9EF4-21743E73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0AEC0-05F4-460B-BB16-D74D44431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9CE7-0A82-47DA-B97A-FDE0E938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E31B-95CC-4D0E-B059-9C32B567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CA6D-3362-4365-9438-FA7916DA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D203-346C-4AF3-9DC3-93CEF131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4E8-2C68-4DD2-95B0-06DD94D0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C745-99EB-4481-80DD-279E8A8C2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C233-B18F-4ED5-86C7-45B49251F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C731-42E4-4413-B2CA-7EB2AE31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88C1-CE0E-4EB7-A6D0-74F88223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E3AF-FF86-463D-AAFF-D9CEABF2914D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A9EB-6732-4A69-9315-5EFF5842B293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olv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do they e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are the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13T00:07:05Z</dcterms:modified>
  <cp:revision>3</cp:revision>
  <dc:subject/>
  <dc:title>Wolves</dc:title>
</cp:coreProperties>
</file>