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34E-E212-451B-98DC-699DBF0B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205-DE10-4BFE-87A4-3A6878FD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B53-E137-49E9-AC93-43FDC73A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DEA-5FB3-4526-832C-CE1E57F8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D545-9560-4170-95B9-B315DE6A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80FD-DDC8-4D48-972A-1947A082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D98E-3708-43F0-B23F-0303BE9C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EE1E-AAD6-462A-A8E1-8465DA3E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D7B1-D21E-45ED-8A60-A2A7C3A3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A2FB-D841-4D34-B076-0A8A5631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471B-F841-48E2-AC47-4FA97E9B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AB6-D118-40EB-94A5-503B493B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53B0-0364-4298-AC2D-5C2D0785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7BB7-9297-49F7-BEAB-A3992E4F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24A3-B55B-45E3-AB94-B26936E4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CD6E-6A69-46B2-AC0F-29B2BFB9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8152-AF4C-4875-B360-5ADC85C7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B9C-5FD1-490C-B398-9EF9AC07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83D-7495-471B-9316-D03D02B2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3D3-2BD9-45B2-BF2D-948FDA2B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D6B-A57A-40CB-9589-04D01B0A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9D5-90B5-45A7-92FB-72C2EDF0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D01-D13C-4905-80E9-99CE460F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0BC-00E3-415E-8933-3FD76C5A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AD1B-0929-4176-A287-7C3883A88FA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7227-ECA8-435E-808A-92E6F187981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Wolv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By Flyn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at do they e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at are th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3:27:11Z</dcterms:created>
  <dc:creator>room6</dc:creator>
  <dc:description/>
  <dc:language>en-US</dc:language>
  <cp:lastModifiedBy>room6</cp:lastModifiedBy>
  <dcterms:modified xsi:type="dcterms:W3CDTF">2010-05-13T00:07:05Z</dcterms:modified>
  <cp:revision>3</cp:revision>
  <dc:subject/>
  <dc:title>Wolves</dc:title>
</cp:coreProperties>
</file>