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B9E4-4757-49EB-9368-54756ADA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83D6-15A7-43D8-B24B-73DC415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4B96-E08D-40E0-9F30-77A64DAB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E28B-24FF-4BF3-97CD-8B59155E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A093-F007-4E8F-BC47-6F491585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4FD3A-F7A4-4B62-8BDE-36A158A3D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F5DE-5E0C-4F6F-A610-C3DA99FD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DD1D-DF29-45F0-9AA3-023485B9E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D710-A93E-4688-882C-AB6CBCEA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77B60-9CD1-4944-8235-6DAD8CBB8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BCFC2-6A32-4583-95ED-1C5F6EE13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9345-4A64-43F9-91F7-81C64115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998C-755A-4BFA-AFC7-DE20353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AEDA-C3C9-498E-B223-CC21BF0E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2A05F-0B86-4583-BA86-A39D8B08D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11057-76F2-47EE-8FB2-F6FA3507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0E46-B575-4C10-ACAB-11694E82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F4BD-44D4-403F-BEED-D29041A3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ADD8-6B10-430E-B332-4AED8256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FE6-211B-4F5C-BAFA-5131B0B7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8A2-F7EC-4D86-A08C-3052F0C3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AABE-1A22-4AF1-9D34-4657C57E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B659-22EC-43BC-82EB-589C5332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BF2B-0948-486C-A04A-F847904D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94B3-EAE8-4E38-89B9-E2309330CB3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F89F-32BB-40FE-93C8-2038F55831AF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olv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do they 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are th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13T00:07:05Z</dcterms:modified>
  <cp:revision>3</cp:revision>
  <dc:subject/>
  <dc:title>Wolves</dc:title>
</cp:coreProperties>
</file>