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BB6-A910-49EB-838B-8B1322FD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A83-E10D-48AC-B200-4FAF5DE4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8DA-6091-4DF1-B668-B27C496B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AAA-DD43-4264-800E-4D808109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702D-6B32-4E1F-A191-B0F6B5F3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D237-E79B-4AB0-8F35-2488007D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E12E-2F19-4D32-A474-85B5D23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444B-E82E-4346-8305-CDC01E4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CEF-82A3-49C9-8047-3A28C7CF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FBD-D2BE-49FF-B7E1-DBC1E6A1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DE2B-C661-43C4-AD1C-D2E630A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846-14CA-4E52-937E-D55BE168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5AEB-4A8F-4287-A1CF-44E2B0E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6B22-10A8-4E09-841E-0BD44087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F8F9-0C52-4503-9F03-1B4FE8B6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A46D-8808-42CB-8B10-7AAD63EC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48AD-1DF9-4147-9B2B-51DEB76B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FFA-CAB9-4327-87E6-7DDDD77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E6E-8E00-4101-A0F1-74844A19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5B7-A030-4394-96DA-40AA1B24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391-250A-4A7B-88A9-29CF03D5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A2C-1959-421B-A808-02FE481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B94-8C48-4503-BD0F-0B414740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9E9-81EC-425A-B0CF-5B383C3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C4D5-4B83-42DB-A896-B5EC0AB8347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BAFF-1C86-48C2-B2E6-FB6BCC4F476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olv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By Fly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do they 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are th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27:11Z</dcterms:created>
  <dc:creator>room6</dc:creator>
  <dc:description/>
  <dc:language>en-US</dc:language>
  <cp:lastModifiedBy>room6</cp:lastModifiedBy>
  <dcterms:modified xsi:type="dcterms:W3CDTF">2010-05-13T00:07:05Z</dcterms:modified>
  <cp:revision>3</cp:revision>
  <dc:subject/>
  <dc:title>Wolves</dc:title>
</cp:coreProperties>
</file>