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17D-948B-43AD-8EAC-C343D200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EBC-DD0F-40A9-BEE3-AC4F1C6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620-4655-4AD7-A023-578526B6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76F-A674-4418-A37B-190A8AD9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E443-8DC0-4BA8-B862-DE970D7D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25A9-56A3-4FF0-90CD-87083640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C3E0-7FD1-4DA0-BFC1-5F47BDAD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DFFB-ECD5-4336-ADC2-B376744C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CCC4-AD41-4E9C-82A3-2BE30B9D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244A-DAF8-4439-9900-D51ED689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CC20-84D0-4013-872D-05EDBACC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703-4633-43CD-AD7E-27A9659E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AF5A-7949-4CC0-B593-0428684A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EFF3-49F8-480A-A2F5-57CA4B87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DA62-C7F0-47B6-9830-D16C7D52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9AC7-AB26-41AC-B80A-1C37A21A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A37E-98B4-4466-A63E-921BC41C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1AD-1E47-4A32-83B5-366FC296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94F-0DDE-46A9-B1D9-C045397D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480-306D-4752-A8AD-97A9B0B5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2BB-0B96-4F1A-9513-53EED2A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869-8F67-42DF-B3B4-3FEDFADB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ED5-61E1-4767-97F6-B5958A0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38E-6061-4B61-A89D-91D9586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444A-B8AA-4537-B7E7-A146B5562EA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37CB-285A-4D4B-9B96-1212673CD4A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00ffff"/>
                </a:solidFill>
                <a:latin typeface="Arial Black"/>
              </a:rPr>
              <a:t>Pony’s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5 interesting facts p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There are 121 pony’s in the wor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A pony’s body is covered in short hair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They eat apples,carro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There are all kinds of them like the white face.                                                       .Pony’s have strong legs that help them to move quick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enem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A pony’s enemies are wolv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38102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166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ff"/>
                </a:solidFill>
                <a:latin typeface="Arial Black"/>
              </a:rPr>
              <a:t>par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79280" y="549000"/>
            <a:ext cx="475308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 Black"/>
              </a:rPr>
              <a:t>This is parts of a pon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056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How much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ere are 121 pony’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857840" y="3819600"/>
            <a:ext cx="4286160" cy="3038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4248000" cy="2997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227640" y="2421000"/>
            <a:ext cx="1305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White p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is is a white pon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Where they liv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ey live at farm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744720" cy="23925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02400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Racing pony’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is is a racing pony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6191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B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y</a:t>
            </a: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e 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B</a:t>
            </a: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y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e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0:08:18Z</dcterms:created>
  <dc:creator>room6</dc:creator>
  <dc:description/>
  <dc:language>en-US</dc:language>
  <cp:lastModifiedBy>room6</cp:lastModifiedBy>
  <dcterms:modified xsi:type="dcterms:W3CDTF">2010-05-05T21:54:32Z</dcterms:modified>
  <cp:revision>10</cp:revision>
  <dc:subject/>
  <dc:title>Pony’s body</dc:title>
</cp:coreProperties>
</file>