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37A-500D-4DE5-9763-90D33349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E4E9-CFD4-42C4-A26D-F9A01D13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B425-39D8-4C67-A2E0-0EDA1159D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509B-E1AE-4FEC-BD88-2F740F8A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7FE12-FC93-4AD3-AF50-B30947F53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44FC-15E2-4763-B1E3-D6ADC6A1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1177-3924-4A11-B74D-0704D89F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8B66A-F517-42ED-BF35-1262797A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9828C-8469-4B4D-A718-511D1881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A13D-49A7-4122-972A-EBF1007F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CFBE-7392-4070-B921-8C7A2E1B9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16D2-DFB7-44ED-95B4-25B19D04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EE29-EFFA-4A91-A003-E5E7555B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5DC4-C9CE-430D-93B8-E361ED50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244B-3D46-4DB6-A9C0-61182E67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2920-14DA-45AA-966A-CDA3D8CC2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D1822-666B-4EF1-AF2F-48B7681D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A27D-3936-4F4C-AD4E-2214873D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445B-D848-40B1-A06F-22961C42E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F988-C796-4FF7-8EF5-A7EB21E3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3548-DA52-4C8D-909B-4EB020E5A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431-BEBF-44B2-8680-AE42193A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C7CD-7726-463F-B22F-4B1532A7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983F-A5E8-4385-B17C-9F929B1E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F88B-A160-4C3B-A12E-A2B0396FCC5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1572-9728-4B4A-B363-5C6B839C6D5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11280" y="1483920"/>
            <a:ext cx="77724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00ffff"/>
                </a:solidFill>
                <a:latin typeface="Arial Black"/>
              </a:rPr>
              <a:t>Pony’s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5 interesting facts pon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There are 121 pony’s in the worl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A pony’s body is covered in short hair 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They eat apples,carrots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   </a:t>
            </a: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. There are all kinds of them like the white face.                                                       .Pony’s have strong legs that help them to move quickly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                   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enemi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A pony’s enemies are wolv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124000" y="2781360"/>
            <a:ext cx="381024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1666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ff"/>
                </a:solidFill>
                <a:latin typeface="Arial Black"/>
              </a:rPr>
              <a:t>parts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79280" y="549000"/>
            <a:ext cx="4753080" cy="863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ff"/>
                </a:solidFill>
                <a:latin typeface="Arial Black"/>
              </a:rPr>
              <a:t>This is parts of a pony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7056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How much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ere are 121 pony’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857840" y="3819600"/>
            <a:ext cx="4286160" cy="303840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0" y="3860640"/>
            <a:ext cx="4248000" cy="2997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3"/>
          <a:stretch/>
        </p:blipFill>
        <p:spPr>
          <a:xfrm>
            <a:off x="6227640" y="2421000"/>
            <a:ext cx="130500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White pon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is is a white pon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68360" y="2492280"/>
            <a:ext cx="41054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Where they liv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ey live at farm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744720" cy="23925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2"/>
          <a:stretch/>
        </p:blipFill>
        <p:spPr>
          <a:xfrm>
            <a:off x="4788000" y="3284640"/>
            <a:ext cx="302400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Racing pony’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ff"/>
                </a:solidFill>
                <a:latin typeface="Arial Black"/>
              </a:rPr>
              <a:t>This is a racing pony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826920" y="2708280"/>
            <a:ext cx="6191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00ff"/>
                </a:solidFill>
                <a:latin typeface="Arial Black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B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y</a:t>
            </a: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e 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B</a:t>
            </a:r>
            <a:r>
              <a:rPr b="0" lang="en-NZ" sz="9600" spc="-1" strike="noStrike">
                <a:solidFill>
                  <a:srgbClr val="ff00ff"/>
                </a:solidFill>
                <a:latin typeface="Arial Black"/>
              </a:rPr>
              <a:t>y</a:t>
            </a:r>
            <a:r>
              <a:rPr b="0" lang="en-NZ" sz="9600" spc="-1" strike="noStrike">
                <a:solidFill>
                  <a:srgbClr val="ff8b17"/>
                </a:solidFill>
                <a:latin typeface="Arial Black"/>
              </a:rPr>
              <a:t>e</a:t>
            </a:r>
            <a:r>
              <a:rPr b="0" lang="en-NZ" sz="3200" spc="-1" strike="noStrike">
                <a:solidFill>
                  <a:srgbClr val="ffcc00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00:08:18Z</dcterms:created>
  <dc:creator>room6</dc:creator>
  <dc:description/>
  <dc:language>en-US</dc:language>
  <cp:lastModifiedBy>room6</cp:lastModifiedBy>
  <dcterms:modified xsi:type="dcterms:W3CDTF">2010-05-05T21:54:32Z</dcterms:modified>
  <cp:revision>10</cp:revision>
  <dc:subject/>
  <dc:title>Pony’s body</dc:title>
</cp:coreProperties>
</file>