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578A-656F-4980-946E-B69ACFE3A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3C1-0C9C-4A85-9D10-5FDB708A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444B-EEB6-4B97-9F14-36E15B10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0023-67F0-492E-95A7-4CFA151FF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FB283-164C-4A93-BDA1-8BAF6D51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0618-80C8-454C-A074-BEC49CFD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8A6-7556-4E84-865E-7FA71BFB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F8F4-602D-4BFD-A403-C8FC06A1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FCE8-EC4B-4372-A4E9-A6A857E8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721AF-5EFD-4CA6-9EEE-0B400FE4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1F1B-0788-4211-851B-FE781F7F7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4737-735B-431B-A863-8ACB987D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1414-68FB-42AD-8856-13D50E06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BC7D2-3E5A-46DB-9028-2A9D9A8B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5D83-0334-4787-8EB7-5EC6B28A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4E0AB-9319-4374-ABCC-02945F9E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366C6-BF59-4182-8BF5-E71E1042A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50A1-0C8E-4C03-9672-CAD2043F4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838-D7D6-47BE-8790-35B3233C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72F1-685F-4AC2-85FB-E8B19474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839E-6A48-4A41-822F-D7F81271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7546-40B9-4D9C-919B-AA3AC08B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CDF5-CF28-4A7A-AC24-55688C27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7157-3BC9-42FE-8A27-9EE486D8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A8646-AF34-4D5A-AA62-C123DE6BF367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C56D-7C49-41FD-A7B6-D32900965B7F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ffff"/>
                </a:solidFill>
                <a:latin typeface="Arial Black"/>
              </a:rPr>
              <a:t>Pony’s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5 interesting facts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There are 121 pony’s in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A pony’s body is covered in short hair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y eat apples,carro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re are all kinds of them like the white face.                                                       .Pony’s have strong legs that help them to move quick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enem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A pony’s enemies are wol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8102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166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ff"/>
                </a:solidFill>
                <a:latin typeface="Arial Black"/>
              </a:rPr>
              <a:t>par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79280" y="549000"/>
            <a:ext cx="475308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 Black"/>
              </a:rPr>
              <a:t>This is parts of a pon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056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How much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re are 121 pony’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857840" y="3819600"/>
            <a:ext cx="4286160" cy="3038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248000" cy="2997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227640" y="2421000"/>
            <a:ext cx="1305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ite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white pon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ere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y live at far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744720" cy="2392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02400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Racing pony’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racing pony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19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e 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e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08:18Z</dcterms:created>
  <dc:creator>room6</dc:creator>
  <dc:description/>
  <dc:language>en-US</dc:language>
  <cp:lastModifiedBy>room6</cp:lastModifiedBy>
  <dcterms:modified xsi:type="dcterms:W3CDTF">2010-05-05T21:54:32Z</dcterms:modified>
  <cp:revision>10</cp:revision>
  <dc:subject/>
  <dc:title>Pony’s body</dc:title>
</cp:coreProperties>
</file>