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A2C-FD82-4405-B58F-E1E2E33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F43-AE39-4494-A516-97D7A84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98C-6E68-471D-BCAC-5F40813A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A7F-BF9C-4D20-AAA6-EA4B5762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1AF-8C9B-4054-AB66-756ECCF3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C3B-5E5A-4920-B9E3-D2F5BEB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908-E866-4F2B-87AA-36EC162A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C0B4-9BD0-411B-90D2-A796365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5278-6C4D-4044-A308-1E8A1A72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DAF-CFD7-4096-A7EE-94414B7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939-B920-4688-92AF-A9D749F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F54-AB60-43F3-A071-CB4054EC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0B19-9ABA-43C4-8D1C-1D5597B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B87-6A60-4D78-A34C-31705355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F52A-5B62-46D9-B31E-9E1B577A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3874-3532-4FE0-A81D-AE52F95C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391B-DC58-4FDA-9246-4DF754F0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321-39AA-436B-886E-62A436C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B2A-76B7-421A-9C54-29F8D01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F71-D6A5-4F7E-BBDB-2DA86C1D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EA1-A990-4EBC-AE89-C329194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6D5-315C-4ACC-8296-8A1FA96C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83B-5B69-4368-B303-B0A625A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93B-675E-42E7-979E-99E19E6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786-D5DD-4300-A311-C50D3DB3E9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9B9F-CA72-40E4-A605-5C504B0A5C6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ffff"/>
                </a:solidFill>
                <a:latin typeface="Arial Black"/>
              </a:rPr>
              <a:t>Pony’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5 interesting facts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There are 121 pony’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A pony’s body is covered in short hair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y eat apples,carro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re are all kinds of them like the white face.                                                       .Pony’s have strong legs that help them to move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enem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A pony’s enemies are wol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8102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166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ff"/>
                </a:solidFill>
                <a:latin typeface="Arial Black"/>
              </a:rPr>
              <a:t>par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79280" y="549000"/>
            <a:ext cx="475308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 Black"/>
              </a:rPr>
              <a:t>This is parts of a pon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056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How much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re are 121 pony’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857840" y="3819600"/>
            <a:ext cx="4286160" cy="3038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248000" cy="2997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1305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ite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white pon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ere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y live at far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744720" cy="2392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02400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Racing pony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racing pony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19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e 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e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08:18Z</dcterms:created>
  <dc:creator>room6</dc:creator>
  <dc:description/>
  <dc:language>en-US</dc:language>
  <cp:lastModifiedBy>room6</cp:lastModifiedBy>
  <dcterms:modified xsi:type="dcterms:W3CDTF">2010-05-05T21:54:32Z</dcterms:modified>
  <cp:revision>10</cp:revision>
  <dc:subject/>
  <dc:title>Pony’s body</dc:title>
</cp:coreProperties>
</file>