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7D0-BFC0-4988-AD25-8FD0697C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30E3-40ED-4B45-A3E3-D0E53FD7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662-E8BB-453E-8AB6-3A310EB4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E70-4336-4B43-A234-3B982D6C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313A-40A1-4F70-94D1-DFE39CAA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FF7E-E7B4-4F98-809A-B9339C04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A82E-3CC9-4914-873F-C8269211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AA4A-70F5-4D4E-8323-871EA2FD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0D5A-AA2E-4C01-BF6F-4D0DEB36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724F-1C08-4078-996A-AE08E0DA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1407-06F6-42B9-B638-A983E7FC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8C2F-AE06-4564-91EE-4CF5FF78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F6E1-8B1E-4D7F-ACF1-388ABD01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2A26-B3D6-4002-AA02-2D8B3DE9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744B-5FA4-4E51-8CC1-E690D4AB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D8FA-8063-462A-B3D6-FF93CC71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91E0-D46C-49B1-9017-AE0384C3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39F6-BD21-47D6-B2A8-9FC8744E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AD3-E11F-4333-9065-2FB94F5F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718-12AC-46C7-8995-56609A40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6EE4-CE74-4BBF-89B7-CE115B41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A3B-0E1C-484C-B7E5-BF211A8C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75E-D662-4B80-A92C-0C58F361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DCB-6F79-4408-9312-8CF666E0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1C49-496E-496E-A168-4F15579FE6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07B6-6FBA-4E84-9BDD-18CD7392B1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feec94"/>
                </a:solidFill>
                <a:latin typeface="Times New Roman"/>
              </a:rPr>
              <a:t>L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64008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By Z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87640" y="3500280"/>
            <a:ext cx="3672000" cy="21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eec94"/>
                </a:solidFill>
                <a:latin typeface="Times New Roman"/>
              </a:rPr>
              <a:t>Where do they live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They live in Afr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As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84720" y="2924280"/>
            <a:ext cx="38178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eec94"/>
                </a:solidFill>
                <a:latin typeface="Times New Roman"/>
              </a:rPr>
              <a:t>What are their enemies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Their enemies are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627280" y="2565360"/>
            <a:ext cx="41036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eec94"/>
                </a:solidFill>
                <a:latin typeface="Times New Roman"/>
              </a:rPr>
              <a:t>What do they eat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They eat deer zebra and wildebees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460872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eec94"/>
                </a:solidFill>
                <a:latin typeface="Times New Roman"/>
              </a:rPr>
              <a:t>How fast are they?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50 mph is the maximum speed of l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648036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eec94"/>
                </a:solidFill>
                <a:latin typeface="Times New Roman"/>
              </a:rPr>
              <a:t>five interesting fact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1628640"/>
            <a:ext cx="71294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Only big cats can ro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Lions eyes change colour when they’re 2 or 3 months 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Lions mostly hunt at n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Lions can’t chew they just rip big chunks their pr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Lions can camouflage by crouching down on the g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23840" y="1362240"/>
            <a:ext cx="686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2844720" y="4941720"/>
            <a:ext cx="647640" cy="1668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2484360" y="3284640"/>
            <a:ext cx="720720" cy="1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0:08:24Z</dcterms:created>
  <dc:creator>room6</dc:creator>
  <dc:description/>
  <dc:language>en-US</dc:language>
  <cp:lastModifiedBy>room6</cp:lastModifiedBy>
  <dcterms:modified xsi:type="dcterms:W3CDTF">2010-05-11T01:59:33Z</dcterms:modified>
  <cp:revision>6</cp:revision>
  <dc:subject/>
  <dc:title>Lion</dc:title>
</cp:coreProperties>
</file>