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2DC7-5B6A-43DA-81E6-C4CD17EC3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F614-3F67-494D-9FFC-03F30AD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2100-6E97-4C04-90E5-ED2CE63A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2ED5-B733-402D-8536-A5E00EA7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B7C7-1045-49B4-9606-E75F3FE96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8B72-5CD4-44B0-994D-B7E8B509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D2460-07F4-4CD2-9361-45C1A2A3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728F-4F9D-4069-94A4-9B92B78A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1CBE-F2A7-413E-B28A-1C079235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98F1-39CE-43CC-8A88-0D424769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2CA6A-701E-488D-90F1-F6F1D5A5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85AD-FB7B-4515-9F3E-61ECE81D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5C261-631E-404A-83BD-157874AC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33DE-743F-4687-89FC-66788FECE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358E8-B122-478E-AB90-3972D0EB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5903-3441-435E-9FF3-A233C91C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9F6E-F80F-4F6D-8FA5-EB04BC5F9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4A1B-5869-413C-B62C-8C95DEF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6B0-95A6-4543-BF2F-A134347F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783D-FF4D-43A9-8BA3-8A91F096F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04E-F035-4FA5-8853-82AA2AB9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8F91-7D45-441F-8BA6-623E54DE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7B63-F980-43F6-B647-9749E4D4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BD7-1B68-4E95-9A4B-9E5847FF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55B9-4480-48AC-8982-5C4A1F594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7C95-7E09-4BA3-B72B-242B70E7F3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5400" spc="-1" strike="noStrike">
                <a:solidFill>
                  <a:srgbClr val="feec94"/>
                </a:solidFill>
                <a:latin typeface="Times New Roman"/>
              </a:rPr>
              <a:t>Lion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2708280"/>
            <a:ext cx="6400800" cy="293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By Za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87640" y="3500280"/>
            <a:ext cx="3672000" cy="210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eec94"/>
                </a:solidFill>
                <a:latin typeface="Times New Roman"/>
              </a:rPr>
              <a:t>Where do they live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76640"/>
            <a:ext cx="8229600" cy="38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live in Afric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Asi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2924280"/>
            <a:ext cx="381780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are their enemies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ir enemies are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4103640" cy="34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What do they eat?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They eat deer zebra and wildebees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50920" y="2565360"/>
            <a:ext cx="460872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How fast are they?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50 mph is the maximum speed of l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87280" y="2349360"/>
            <a:ext cx="648036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feec94"/>
                </a:solidFill>
                <a:latin typeface="Times New Roman"/>
              </a:rPr>
              <a:t>five interesting facts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436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71640" y="1628640"/>
            <a:ext cx="712944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Only big cats can ro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eyes change colour when they’re 2 or 3 months ol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mostly hunt at nigh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’t chew they just rip big chunks their pre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imes New Roman"/>
              </a:rPr>
              <a:t>Lions can camouflage by crouching down on the grou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23840" y="1362240"/>
            <a:ext cx="68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2844720" y="4941720"/>
            <a:ext cx="647640" cy="1668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-2484360" y="3284640"/>
            <a:ext cx="720720" cy="10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0:08:24Z</dcterms:created>
  <dc:creator>room6</dc:creator>
  <dc:description/>
  <dc:language>en-US</dc:language>
  <cp:lastModifiedBy>room6</cp:lastModifiedBy>
  <dcterms:modified xsi:type="dcterms:W3CDTF">2010-05-11T01:59:33Z</dcterms:modified>
  <cp:revision>6</cp:revision>
  <dc:subject/>
  <dc:title>Lion</dc:title>
</cp:coreProperties>
</file>