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8D5-A346-4CEA-835C-400C814C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B1E9-520C-4AB7-A55F-35DE197B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C7EF-6DA0-4447-9F54-E7377B75D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583D-40E4-44E4-8CE4-ECD6EA0B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2AC2-423E-4DA2-BDBA-443193A4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25F4-3D28-41F7-8581-D30FD1913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EB60-00C2-4057-8EF4-4049CA031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C0BF5-BC6A-4780-8F42-2851CD724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D2693-5573-4518-9D58-F913577E1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78FA-12FE-410D-8B36-68888C73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8AF1D-A36B-48D8-90EB-C09ECDF0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0260-BFE2-4BED-B85B-6B9566AD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C657-F853-47B6-91BE-CF6FF087C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E464-3F68-4137-9843-24789DF71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4685C-B07E-4BF6-ACCE-E218E088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CAE7-7B53-45D2-8C36-B800C6AF5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6E51-A7CA-4AA1-8D16-A399D960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4AE1-A24D-4911-8DD4-B41C0E41B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F29-BE4C-4726-8B12-76507988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09FF-581A-4EFD-8C98-5B91C928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F0E-8D21-4B7F-80A8-5FE7030A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BEAF-DAF9-46C7-8FBD-CA85444E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C4A-19E0-42CC-9A91-86981861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31E7-84F7-4882-ABC5-52B8A5FE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DC439-AC23-47AD-8FDD-96BD90A6F8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A1D8B-C01F-4DF3-ABBE-24B7A9F7A7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eec94"/>
                </a:solidFill>
                <a:latin typeface="Times New Roman"/>
              </a:rPr>
              <a:t>L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By Z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367200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eec94"/>
                </a:solidFill>
                <a:latin typeface="Times New Roman"/>
              </a:rPr>
              <a:t>Where do they liv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live in Af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As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38178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are their enemies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ir enemies are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4103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do they ea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eat deer zebra and wildebe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6087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How fast are they?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50 mph is the maximum speed of l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4803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five interesting fac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628640"/>
            <a:ext cx="71294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Only big cats can ro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eyes change colour when they’re 2 or 3 month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mostly hunt at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’t chew they just rip big chunks their pr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 camouflage by crouching down on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3840" y="13622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2844720" y="4941720"/>
            <a:ext cx="647640" cy="166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484360" y="3284640"/>
            <a:ext cx="720720" cy="1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0:08:24Z</dcterms:created>
  <dc:creator>room6</dc:creator>
  <dc:description/>
  <dc:language>en-US</dc:language>
  <cp:lastModifiedBy>room6</cp:lastModifiedBy>
  <dcterms:modified xsi:type="dcterms:W3CDTF">2010-05-11T01:59:33Z</dcterms:modified>
  <cp:revision>6</cp:revision>
  <dc:subject/>
  <dc:title>Lion</dc:title>
</cp:coreProperties>
</file>