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48C-0B9C-41B6-A8C8-55ED5E84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342-DA00-4FDD-9A82-36B18078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A55-AC41-469E-AB88-66735209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C4CF-BBF7-4D09-B1B8-C7C894F3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15BA-A4DF-4F9D-93F7-8954AB9C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22AA-FF8D-497E-8F1D-DF9B0950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BBF4-D3EB-4589-8042-3F057FBE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A72C-8D4F-4B09-AA08-52ADC395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2705-F5B1-40C5-A9E9-801674F7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C5AC-1AC2-49C5-8F7D-99D41F01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138F-3C17-4C35-BDF5-A3BA5394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5CE-B57C-43C2-AE2D-631D29A0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57AA-A567-4447-B310-D073B73C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460C-91C2-43A2-9E05-084E9B8F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7977-4AC4-46AD-8359-D8C37495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E7A3-06B5-4CDA-AE15-9B996FAE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3BC1-8690-40AD-ACC6-DDDA60E1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063-5B8A-465A-B757-7E0F709D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B57B-666D-4A89-91E6-6473C68A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216-F302-4405-B594-DDE62206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EC9-C11F-4FE5-890F-DA5F55F1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3057-E342-49E7-92EF-5FB17A36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695-C774-4E5A-BF45-A6263F23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BF5C-3E85-4DC7-B944-76481BAD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CB96-942A-4609-AED7-F269113F0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C30F-52D5-409C-B436-AD99391E2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feec94"/>
                </a:solidFill>
                <a:latin typeface="Times New Roman"/>
              </a:rPr>
              <a:t>L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By Z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87640" y="3500280"/>
            <a:ext cx="367200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eec94"/>
                </a:solidFill>
                <a:latin typeface="Times New Roman"/>
              </a:rPr>
              <a:t>Where do they liv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They live in Afr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As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84720" y="2924280"/>
            <a:ext cx="38178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eec94"/>
                </a:solidFill>
                <a:latin typeface="Times New Roman"/>
              </a:rPr>
              <a:t>What are their enemies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Their enemies are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627280" y="2565360"/>
            <a:ext cx="41036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eec94"/>
                </a:solidFill>
                <a:latin typeface="Times New Roman"/>
              </a:rPr>
              <a:t>What do they eat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They eat deer zebra and wildebee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46087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eec94"/>
                </a:solidFill>
                <a:latin typeface="Times New Roman"/>
              </a:rPr>
              <a:t>How fast are they?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50 mph is the maximum speed of l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648036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eec94"/>
                </a:solidFill>
                <a:latin typeface="Times New Roman"/>
              </a:rPr>
              <a:t>five interesting fact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1628640"/>
            <a:ext cx="71294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Only big cats can ro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Lions eyes change colour when they’re 2 or 3 months 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Lions mostly hunt at n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Lions can’t chew they just rip big chunks their pr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Lions can camouflage by crouching down on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23840" y="1362240"/>
            <a:ext cx="68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2844720" y="4941720"/>
            <a:ext cx="647640" cy="1668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2484360" y="3284640"/>
            <a:ext cx="720720" cy="1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0:08:24Z</dcterms:created>
  <dc:creator>room6</dc:creator>
  <dc:description/>
  <dc:language>en-US</dc:language>
  <cp:lastModifiedBy>room6</cp:lastModifiedBy>
  <dcterms:modified xsi:type="dcterms:W3CDTF">2010-05-11T01:59:33Z</dcterms:modified>
  <cp:revision>6</cp:revision>
  <dc:subject/>
  <dc:title>Lion</dc:title>
</cp:coreProperties>
</file>