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A6FCB-A558-44E0-A366-F9181B88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AA5C5-B143-48A7-8C9E-3A47D29A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0A161-6E85-41AA-A192-309DE64E2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1DCD7-1520-43F5-BF19-F5EACDBD6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EA49-5429-41E3-B69E-9E218B957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1C3F-A198-40B0-B649-C8D3C804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1036D-F0AC-4848-897A-9DC4D3B96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0639-6A8F-4E74-AA87-1B6851216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6058-D3AF-49C6-AC32-0434C888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2B739-957A-443E-85E4-F4FBAF68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48849-84BF-41B0-8FEE-12141BE4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9D23E-4838-4466-9E1E-95CC501C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629CA-4D8F-4889-95FE-8BF701D75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5FDF-7B30-436B-9060-9F4A22F3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BA04-3E8B-4F58-A51A-2EC1762F8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37284-84E7-416A-8F16-17907795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3CFD-F89C-492F-8CA3-54C5FAE60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92137-BE8B-4430-B408-3FECE838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C2133-535C-4BAE-B988-5DC99D1E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05C44-D697-4608-B54A-06C68FE0E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E7A5A-6B76-4108-B8AF-A0AED92E4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AF1C6-371E-4ADB-B5A4-B4BCBA64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B2F99-E15A-43C0-9355-DBE1D3F0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B0A96-9734-4077-99F3-0AD510A8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BCF3C-0050-49A2-A69E-9C59B857D46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D306-D84D-48AE-A702-6DA0E20B66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e5e5ff"/>
                </a:solidFill>
                <a:latin typeface="Garamond"/>
              </a:rPr>
              <a:t>Hors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By Shaylen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do horses e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eat grass and grain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ere do horses l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live at farm stabl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are there enem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Donkeys and pony’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Do they jump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Some horses jump and some don’t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5 interesting fac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hen a foal is born it waits an hour it can walk wobbly. A horse is talented at racing other horses. You can tell if it’s a heavy horse or a light horse. Horses are used to pull carts or chariots. A 1000 years ago people first put iron shoe’s on horse’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9T23:35:39Z</dcterms:created>
  <dc:creator>room6</dc:creator>
  <dc:description/>
  <dc:language>en-US</dc:language>
  <cp:lastModifiedBy>room6</cp:lastModifiedBy>
  <dcterms:modified xsi:type="dcterms:W3CDTF">2010-05-11T00:18:42Z</dcterms:modified>
  <cp:revision>5</cp:revision>
  <dc:subject/>
  <dc:title>Horse</dc:title>
</cp:coreProperties>
</file>