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952C-41CA-4464-BFA1-510CA6F5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8F0E-55E7-4ABC-8BE3-5F42936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70C6-80C2-471A-BE4D-E1310E02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4D67-553C-46B7-BFD9-2380CBD8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F71E-C9D4-4924-8C2D-1F1BFF71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1933-860E-48F7-A4A7-B53E18C8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B229-D752-4B77-BC50-B0EDA591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2F8A-8D73-4822-B248-225A1121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16D-7E94-4350-84BB-1AB2F806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6AB7-1B8F-4C30-A472-F65F8909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701-55A1-4F9D-88AA-D0D3882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4265-A746-4CAB-A3AF-CAAB5ED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2DEC-30F7-4ADE-87DC-A729D92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648A-6C7B-4A28-A65B-9B03958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F6EC-03C5-4976-B6FE-B56F40DE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7FA6-4D19-4A52-A5E7-A7B55947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D990-D83E-465B-9D69-D774E3B7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D7AE-FC2B-4C4F-82AB-AE63ACA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6CB4-A9E9-45EA-B484-E1EB42F8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519B-3CB1-436E-9B4E-9FF4C20F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5E59-73D9-4CAC-B48E-E7991D7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2DD8-6843-42A4-BED3-2A60104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77C8-8D2E-4193-ACA5-C942E2E6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DB02-0CC9-4896-AC62-1DC0060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A331-21C7-4A0A-8006-46256F954D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0F2-5A11-4BDD-B649-13B5B0248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Hors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Shayle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hors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grass and gra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do hors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at farm st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onkeys and pony’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Do they jum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ome horses jump and some do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hen a foal is born it waits an hour it can walk wobbly. A horse is talented at racing other horses. You can tell if it’s a heavy horse or a light horse. Horses are used to pull carts or chariots. A 1000 years ago people first put iron shoe’s on horse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23:35:39Z</dcterms:created>
  <dc:creator>room6</dc:creator>
  <dc:description/>
  <dc:language>en-US</dc:language>
  <cp:lastModifiedBy>room6</cp:lastModifiedBy>
  <dcterms:modified xsi:type="dcterms:W3CDTF">2010-05-11T00:18:42Z</dcterms:modified>
  <cp:revision>5</cp:revision>
  <dc:subject/>
  <dc:title>Horse</dc:title>
</cp:coreProperties>
</file>