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7B79A-D288-43D8-8DAB-5E9C3E70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11C2A-F430-474C-B841-0EE61F3AF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904C4-5354-4004-87EA-3A6EAEFE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3FE8-02E7-4ABD-8ED3-61D1876F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91F8-F156-498E-9E9F-5DC8B18D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F0973-D6BD-46B4-B820-8EF22341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C2EA3-8EDE-4D4E-B64D-E45C80AA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1D53-0401-438D-B4A6-10CE0C35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ED910-3A4F-43EE-AFA2-0921CDE51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695E9-09C8-4158-937C-A5379003E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05908-3DE5-43ED-A801-20DA4922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DFD8B-F787-433B-811A-D0054BEB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20EA3-1316-4AD7-B40E-0CA937DD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0B242-9ABF-4CB9-8E4E-F0ED6BCE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229-8181-4F9C-8FDB-7B4A2211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4AC61-B3E8-4ADD-A519-3448061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EC6B-D82D-4104-B90C-7916D2D71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84F53-A1A9-4964-B4FC-B3DBAC80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B7951-1F43-4DE0-B12E-04BAA2DD9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2DEC8-97DD-427E-ADD7-FAFD68AE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CD8A3-D90B-4037-8498-D71A1C13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182EA-A120-481C-A7DD-DEAEEB63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D66D-508E-4B65-B118-C2069AE3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A041B-1750-4481-8CCD-A1F7940EF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1A238-AB4F-4DA0-85EE-5F1E6B84ED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5590-6B3D-4DE8-A2F2-C8B290B2D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Hor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Shayle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hors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grass and gra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do hors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at farm st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onkeys and pony’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Do they jum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ome horses jump and some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en a foal is born it waits an hour it can walk wobbly. A horse is talented at racing other horses. You can tell if it’s a heavy horse or a light horse. Horses are used to pull carts or chariots. A 1000 years ago people first put iron shoe’s on horse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3:35:39Z</dcterms:created>
  <dc:creator>room6</dc:creator>
  <dc:description/>
  <dc:language>en-US</dc:language>
  <cp:lastModifiedBy>room6</cp:lastModifiedBy>
  <dcterms:modified xsi:type="dcterms:W3CDTF">2010-05-11T00:18:42Z</dcterms:modified>
  <cp:revision>5</cp:revision>
  <dc:subject/>
  <dc:title>Horse</dc:title>
</cp:coreProperties>
</file>