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AF67C-6625-43BD-8176-EE96B1A13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C3A82-133B-453B-B58E-03DD67EC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26D38-F787-400F-8D6E-555F509EC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24648-2E99-444E-B0D9-8114C13CC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8078-C83A-4287-BF03-CD80FAA98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7BA2-3FDE-4676-8AB1-44C12FB7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FC84-4FAA-4A15-9DCC-B016C6D4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9B14-4BF8-4F57-9BE7-09CF024C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3E5D-3C8B-47ED-ADC5-A2D93DEE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E1A1-DA20-4142-95B0-DDF54622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B02A-A6F6-4DFA-8B0A-A7A3850D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3799A-8B50-498F-A4F0-C4761572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B337-D3CA-4B50-96DF-D25C8386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FA15-F6C4-4FCF-A883-B4B69981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A506-8A4C-4FF9-AD07-D977C34E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F9A7-9072-48DF-8EFE-6D048169A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92E0-3297-4294-9D04-18619CDFA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F4B3F-A71F-4ED4-817B-57669FC1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9C7A0-F38E-41F0-9A09-14A227E5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B0304-59AA-4D5A-AC46-B8DC13BD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7BE4B-AEF3-4869-9D57-C688B515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B46F8-EC15-4A19-BE5B-1D48F709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8BA3F-E1B9-467D-A983-6D61BE43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D0008-2DEB-46DE-9E93-95099837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5EB2-305F-4DFB-9078-A2B4BCF487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366F-8C40-40DB-95B3-0A64FCEDF8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e5e5ff"/>
                </a:solidFill>
                <a:latin typeface="Garamond"/>
              </a:rPr>
              <a:t>Hors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By Shayle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What do horses e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They eat grass and grai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Where do horses liv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They live at farm stab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What are there enem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Donkeys and pony’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Do they jum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Some horses jump and some don’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5 interesting fac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When a foal is born it waits an hour it can walk wobbly. A horse is talented at racing other horses. You can tell if it’s a heavy horse or a light horse. Horses are used to pull carts or chariots. A 1000 years ago people first put iron shoe’s on horse’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9T23:35:39Z</dcterms:created>
  <dc:creator>room6</dc:creator>
  <dc:description/>
  <dc:language>en-US</dc:language>
  <cp:lastModifiedBy>room6</cp:lastModifiedBy>
  <dcterms:modified xsi:type="dcterms:W3CDTF">2010-05-11T00:18:42Z</dcterms:modified>
  <cp:revision>5</cp:revision>
  <dc:subject/>
  <dc:title>Horse</dc:title>
</cp:coreProperties>
</file>