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EFCC-5481-4E25-9581-339228E44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A063-7899-4BB2-8E76-A4AC5763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0825-5A68-4B1B-BD04-867DDDCD7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CEA6-6AD9-409F-9702-B3F01C78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4F65-3A33-4B21-9D00-1949A884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FA93-8E0C-4A52-8556-BE2F91585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94FA-B00E-4A06-82D1-B7BAD994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7D90-BEB9-43D9-AE68-95B8E46A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D24-2BCD-44E6-AF15-B605CAA3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070B-70D7-4F6A-A1F9-447CEFE3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508-EBE8-4750-9307-4732F674B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701-2C7C-481C-9059-17CFA0C1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4844-590E-4646-B2F2-D858B5CD5B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000000"/>
                </a:solidFill>
                <a:latin typeface="Arial"/>
              </a:rPr>
              <a:t>Giraffes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y Soph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28600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are their enemi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iraffes are so big that not many animals try to attack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ere do they l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y are found in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 they e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y eat leaves from the Acia tree.They only eat pl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7760" y="2890800"/>
            <a:ext cx="29462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ow tall are giraffe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baby Giraffe is about as tall as a basket ball player. A giraffe is about as tall as a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286000" cy="3573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-100080"/>
            <a:ext cx="2795760" cy="1857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132000" y="1700280"/>
            <a:ext cx="1352520" cy="1728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659640" y="0"/>
            <a:ext cx="828720" cy="93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076720" y="1628640"/>
            <a:ext cx="3203640" cy="2087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5796000" y="0"/>
            <a:ext cx="828720" cy="571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403280" y="3789360"/>
            <a:ext cx="6516720" cy="2622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093080" y="1052640"/>
            <a:ext cx="172872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ive interesting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re is an animal that is called a Okapi it lives in a zoo. A few people have seen one before because it lives in the deep forests in Afr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giraffe hoof print is larger than a dinner plate and a cows is much smaller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en a baby giraffe is born it is way to dizzy to stand up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 giraffe is the tallest animal in the world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Young male giraffes leave their mothers to make their own group of giraff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00:18:40Z</dcterms:created>
  <dc:creator>room6</dc:creator>
  <dc:description/>
  <dc:language>en-US</dc:language>
  <cp:lastModifiedBy>room6</cp:lastModifiedBy>
  <dcterms:modified xsi:type="dcterms:W3CDTF">2010-06-11T01:35:24Z</dcterms:modified>
  <cp:revision>12</cp:revision>
  <dc:subject/>
  <dc:title> Giraffes</dc:title>
</cp:coreProperties>
</file>