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73A-B7C2-47E6-8AF0-DFD2E389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FB3-91C1-4294-BD19-EA76BF6A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852-BCB3-4257-A0FA-31F57538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7A8-B528-4664-A406-FEA9960E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173-415B-47DC-A4E5-2351AA3E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AFE-C9C8-427C-B4DF-C32CF8ED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45E-DFC6-420B-A185-9B2D2065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A93-F2AD-4567-82D5-A44708A9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6B8-E882-4023-9CE7-D2CD7163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89F-6913-4143-BA13-076CFAA3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D21-BF0F-4045-82AE-84D25F67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0FF-00BF-4346-9AEE-F3BF5A65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12D1-DA0A-4E49-8CC4-5BEE2506E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Giraff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2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are their enem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raffes are so big that not many animals try to attack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are found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eat leaves from the Acia tree.They only eat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7760" y="2890800"/>
            <a:ext cx="29462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tall are giraff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aby Giraffe is about as tall as a basket ball player. A giraffe is about as tall as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28600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279576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13525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82872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076720" y="1628640"/>
            <a:ext cx="320364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796000" y="0"/>
            <a:ext cx="828720" cy="57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403280" y="3789360"/>
            <a:ext cx="6516720" cy="262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093080" y="1052640"/>
            <a:ext cx="1728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ive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re is an animal that is called a Okapi it lives in a zoo. A few people have seen one before because it lives in the deep forests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giraffe hoof print is larger than a dinner plate and a cows is much small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a baby giraffe is born it is way to dizzy to stand u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giraffe is the tallest animal in the worl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ng male giraffes leave their mothers to make their own group of giraff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18:40Z</dcterms:created>
  <dc:creator>room6</dc:creator>
  <dc:description/>
  <dc:language>en-US</dc:language>
  <cp:lastModifiedBy>room6</cp:lastModifiedBy>
  <dcterms:modified xsi:type="dcterms:W3CDTF">2010-06-11T01:35:24Z</dcterms:modified>
  <cp:revision>12</cp:revision>
  <dc:subject/>
  <dc:title> Giraffes</dc:title>
</cp:coreProperties>
</file>