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071A-EFE2-483F-B6A7-9C8F00B17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A4EE-B4A4-497D-9B28-4FFC39BE5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C544-8740-4C37-A7EC-F07BCFD67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6052-AE55-4AB6-9341-C26D207F8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089C-CDAE-446E-9204-BF868202F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9A08-CA81-4018-A41E-61ED62CCE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C24B-EC6A-479F-AEC6-A48424D91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D9CD-6D3C-4D40-BF88-A8E6EB754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F6E8-889E-4DAE-A0D1-F82C8EF24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DC13-1B29-4548-8900-244FAC074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3808-2A1F-4290-842D-32CBA63E4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58BB-394A-4C0C-8332-FD5BA0EB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90E1A-7CA1-4836-9059-A78DAFC8B8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800" spc="-1" strike="noStrike">
                <a:solidFill>
                  <a:srgbClr val="000000"/>
                </a:solidFill>
                <a:latin typeface="Arial"/>
              </a:rPr>
              <a:t>Giraffes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By Soph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228600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What are their enemi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Giraffes are so big that not many animals try to attack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Where do they li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y are found in Afr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What do they e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y eat leaves from the Acia tree.They only eat pla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57760" y="2890800"/>
            <a:ext cx="29462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How tall are giraff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 baby Giraffe is about as tall as a basket ball player. A giraffe is about as tall as a t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2286000" cy="3573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-100080"/>
            <a:ext cx="2795760" cy="1857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3132000" y="1700280"/>
            <a:ext cx="1352520" cy="1728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6659640" y="0"/>
            <a:ext cx="828720" cy="936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5076720" y="1628640"/>
            <a:ext cx="3203640" cy="2087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5796000" y="0"/>
            <a:ext cx="828720" cy="5716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403280" y="3789360"/>
            <a:ext cx="6516720" cy="26226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8"/>
          <a:stretch/>
        </p:blipFill>
        <p:spPr>
          <a:xfrm>
            <a:off x="7093080" y="1052640"/>
            <a:ext cx="172872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Five interesting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here is an animal that is called a Okapi it lives in a zoo. A few people have seen one before because it lives in the deep forests in Afr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A giraffe hoof print is larger than a dinner plate and a cows is much smaller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When a baby giraffe is born it is way to dizzy to stand up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A giraffe is the tallest animal in the world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Young male giraffes leave their mothers to make their own group of giraff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00:18:40Z</dcterms:created>
  <dc:creator>room6</dc:creator>
  <dc:description/>
  <dc:language>en-US</dc:language>
  <cp:lastModifiedBy>room6</cp:lastModifiedBy>
  <dcterms:modified xsi:type="dcterms:W3CDTF">2010-06-11T01:35:24Z</dcterms:modified>
  <cp:revision>12</cp:revision>
  <dc:subject/>
  <dc:title> Giraffes</dc:title>
</cp:coreProperties>
</file>