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3871-F3BE-47AE-98D7-32BF8EC08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D317-BDA2-44BB-9D81-C19D86A6A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B0B3-0FB1-4A44-BFFF-BC8E943A9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A905-1786-4FB9-9BBE-543E626D1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6683-D96B-41F6-8FE4-6821A2038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F75E-B9E6-4498-9DEE-FBBE4DD15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A3F2-9ED2-4A9A-B001-C86E0CE9D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CDEA-4EE3-473F-BA5E-2BF567323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70F5-5163-46BB-A4D6-E841F3198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631C-A82A-4221-88FA-228222EB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A89B-AB48-451C-BFAC-5E3D3A60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527B-12B9-4EA7-8396-2F394562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14B44-9371-4ABF-B62C-7C5A85E57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800" spc="-1" strike="noStrike">
                <a:solidFill>
                  <a:srgbClr val="000000"/>
                </a:solidFill>
                <a:latin typeface="Arial"/>
              </a:rPr>
              <a:t>Giraffes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By Soph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228600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What are their enemi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Giraffes are so big that not many animals try to attack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Where do they li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y are found in Afr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What do they e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y eat leaves from the Acia tree.They only eat pla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57760" y="2890800"/>
            <a:ext cx="29462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How tall are giraff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 baby Giraffe is about as tall as a basket ball player. A giraffe is about as tall as a t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2286000" cy="3573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-100080"/>
            <a:ext cx="2795760" cy="1857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3132000" y="1700280"/>
            <a:ext cx="1352520" cy="1728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6659640" y="0"/>
            <a:ext cx="828720" cy="936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5076720" y="1628640"/>
            <a:ext cx="3203640" cy="2087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5796000" y="0"/>
            <a:ext cx="828720" cy="571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403280" y="3789360"/>
            <a:ext cx="6516720" cy="26226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7093080" y="1052640"/>
            <a:ext cx="172872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Five interesting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here is an animal that is called a Okapi it lives in a zoo. A few people have seen one before because it lives in the deep forests in Afr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 giraffe hoof print is larger than a dinner plate and a cows is much smaller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When a baby giraffe is born it is way to dizzy to stand up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 giraffe is the tallest animal in the world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Young male giraffes leave their mothers to make their own group of giraff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00:18:40Z</dcterms:created>
  <dc:creator>room6</dc:creator>
  <dc:description/>
  <dc:language>en-US</dc:language>
  <cp:lastModifiedBy>room6</cp:lastModifiedBy>
  <dcterms:modified xsi:type="dcterms:W3CDTF">2010-06-11T01:35:24Z</dcterms:modified>
  <cp:revision>12</cp:revision>
  <dc:subject/>
  <dc:title> Giraffes</dc:title>
</cp:coreProperties>
</file>