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BF63-EE7F-4B41-817A-87F63ABE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E585-E83D-4618-B042-04F21827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53A2-B782-4B80-A205-76CEF221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16A6-7A80-465A-B08E-65D7276A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A957-616D-41E5-A5C4-FB9CB492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AD22-312C-4423-B138-FA5B8F66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A670-6207-45E1-B7F2-BC2CEF94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5843-23D7-4C30-AF4A-D31474E1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F400-5CF3-48B3-8BCC-9E7C3094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6428-8065-46A8-B8C6-ED634BCE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EC8A-6394-4042-BC28-A92B4EC6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C64-0F6F-4708-BE1A-8967345C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2ED6-CE80-4633-BF14-0685915B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9CBE-0914-466E-BEBF-911D6CE7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F40D-2AA8-4345-BB18-C638164D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9660-4D77-41D8-BB22-56554525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7625-9281-4DA6-8566-E1839F6B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B41C-462E-4CCD-BE8C-220CBA9C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F2C7-1447-4314-AFE5-D24AF8EC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C17-F7DA-41B1-BBE8-294D906E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085C-AD36-4892-B15A-DA996CFB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8EB7-1C12-4593-9F32-95C5BC5F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BF87-664B-42E7-AD03-37AB273A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6425-C20E-40FA-9DFB-859FE0A7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B107-8E7D-4F14-91EB-CF40307A55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6D15-2949-44B9-8B53-356BDE42F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549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ffffb7"/>
                </a:solidFill>
                <a:latin typeface="Arial Black"/>
              </a:rPr>
              <a:t>Frogs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MA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4248000" cy="302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Where do they live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Mostly everywhere but not Antarc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03640" y="3429000"/>
            <a:ext cx="2635200" cy="1763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What are their enemie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nakes, small animals and 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132000" y="2852640"/>
            <a:ext cx="2043360" cy="3052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What do they eat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lies and ins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635280" y="2997360"/>
            <a:ext cx="169884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What colours can they b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Mostly green, a grass frog is  light brown and yellow and 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71640" y="3470400"/>
            <a:ext cx="352908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5 Interesting fac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 frog starts off as a tadpole it then grows in to a frogl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y can camouflage in stuff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y land softly with their  front  legs they sping off with their back le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y have a sticky  tong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67280" y="4149720"/>
            <a:ext cx="18273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3:47:58Z</dcterms:created>
  <dc:creator>nicola</dc:creator>
  <dc:description/>
  <dc:language>en-US</dc:language>
  <cp:lastModifiedBy>nicola</cp:lastModifiedBy>
  <dcterms:modified xsi:type="dcterms:W3CDTF">2010-05-04T01:33:33Z</dcterms:modified>
  <cp:revision>10</cp:revision>
  <dc:subject/>
  <dc:title>Frogs</dc:title>
</cp:coreProperties>
</file>