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6CDF-E944-4BF0-8D25-A0FC9DD6A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B4B-D6B9-45FB-AF3B-03111DB2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BDC7-CED9-4E09-913C-7289ACA4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083-0540-460C-8F1E-C3C0B391D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C1019-8A88-4322-A64D-8EFF9ADA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D37A-7439-4D65-BC5D-4B0CBB654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0B0D-8DEC-4F8C-A60D-46AECE01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559E-B3BF-4480-9BFD-857E9DF6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B53D-4384-4C41-AF21-625DC8E8B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DA6D4-3859-45EF-B659-730097FA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A36D-21E5-4A18-A277-45433C5B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FD2-8EA2-430B-818E-770AC69C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8BFF-5E24-4974-8F14-98BB263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AC870-BF64-4D10-96A2-23BE2844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3190-9FB0-485D-BB19-2E1800D4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E2E7-FAA7-481A-89F7-CFDB98CD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73685-8D20-4B88-922A-B2466C637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C38B-E6A2-4774-B331-0155F2E1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D39-CD34-4E9E-A713-DDFA307E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6159-2DCE-413C-AD6A-B04A4D06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D4E1-E03A-4B57-8EED-6A6178E5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C44-32E8-4E1D-96F6-6BE9AC9A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9841-D923-4B75-88A2-DE3C5804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31D-FDA8-40F3-8474-4AACEF98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B3D1-22DF-45EA-80EE-ECB607F16A5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C2BA-BD5E-4973-B160-339AFCB568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54900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fffb7"/>
                </a:solidFill>
                <a:latin typeface="Arial Black"/>
              </a:rPr>
              <a:t>Frogs</a:t>
            </a:r>
            <a:br>
              <a:rPr sz="5400"/>
            </a:b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By MAS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1557360"/>
            <a:ext cx="4248000" cy="302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ere do they live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stly everywhere but not Antarct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2635200" cy="17636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2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are their enemie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nakes, small animals and fis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2043360" cy="3052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do they eat 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Flies and ins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635280" y="2997360"/>
            <a:ext cx="169884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What colours can they b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Mostly green, a grass frog is  light brown and yellow and r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771640" y="3470400"/>
            <a:ext cx="352908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      </a:t>
            </a:r>
            <a:r>
              <a:rPr b="1" lang="en-NZ" sz="4400" spc="-1" strike="noStrike">
                <a:solidFill>
                  <a:srgbClr val="ffffb7"/>
                </a:solidFill>
                <a:latin typeface="Arial Black"/>
              </a:rPr>
              <a:t>5 Interesting fac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A frog starts off as a tadpole it then grows in to a frogle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can camouflage in stuff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land softly with their  front  legs they sping off with their back le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Arial"/>
              </a:rPr>
              <a:t>They have a sticky  tongu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18273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3:47:58Z</dcterms:created>
  <dc:creator>nicola</dc:creator>
  <dc:description/>
  <dc:language>en-US</dc:language>
  <cp:lastModifiedBy>nicola</cp:lastModifiedBy>
  <dcterms:modified xsi:type="dcterms:W3CDTF">2010-05-04T01:33:33Z</dcterms:modified>
  <cp:revision>10</cp:revision>
  <dc:subject/>
  <dc:title>Frogs</dc:title>
</cp:coreProperties>
</file>