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7C7-3CE8-4E2F-AE1F-234C6A26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844-360E-41F4-AD95-5F9A075D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6E6-1A24-4A0B-B5C1-3CBE8FCE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6AF-2CAA-47B2-8B59-8E0D8896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5C85-A54E-4A6F-A5E6-6EB4E101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8376-B102-452D-849D-B3679BC7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1B4D-CBCD-4D6E-9F4C-C75CF7F6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3154-649D-4D80-BE64-70B8D696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1C4A-DE15-43A5-BF89-EB642E30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6BB5-92B1-43A2-ACA9-3EA3DD3D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7D4E-2F62-4FF4-9B74-7531AF97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145-4B26-4151-BC2D-3D417D40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F43B-A70A-412D-8E26-8709CCD1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7745-CBDC-4150-94CC-DA69452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92D0-F1D9-4E3F-961A-4663928D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EF01-AA39-4630-A06E-1378177F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01A3-0001-4B3A-8AAA-42A2D364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871-249E-4649-9BA7-F8545594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F44-EDB2-4E7A-8DE4-6D6A529F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45B-1FCF-4F46-9CC4-A87FCF57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568-7851-4948-8500-A9D48913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C5C-8622-40E7-81A4-FAA5DEB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23B-54AF-4CC2-86BD-DCEEDEB0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681-6909-4EB4-9EAF-C91B22DE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2335-A1E1-4E98-B3ED-8F3700A30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35D7-275A-4E19-B14A-1E9AEB241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49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fffb7"/>
                </a:solidFill>
                <a:latin typeface="Arial Black"/>
              </a:rPr>
              <a:t>Frogs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M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248000" cy="30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ere do they live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stly everywhere but not Antarc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2635200" cy="176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are their enemi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nakes, small animals and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2043360" cy="3052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do they eat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lies and ins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35280" y="2997360"/>
            <a:ext cx="16988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colours can they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stly green, a grass frog is  light brown and yellow and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71640" y="3470400"/>
            <a:ext cx="35290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5 Interesting 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 frog starts off as a tadpole it then grows in to a frog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can camouflage in stuff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land softly with their  front  legs they sping off with their back le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have a sticky  tong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1827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3:47:58Z</dcterms:created>
  <dc:creator>nicola</dc:creator>
  <dc:description/>
  <dc:language>en-US</dc:language>
  <cp:lastModifiedBy>nicola</cp:lastModifiedBy>
  <dcterms:modified xsi:type="dcterms:W3CDTF">2010-05-04T01:33:33Z</dcterms:modified>
  <cp:revision>10</cp:revision>
  <dc:subject/>
  <dc:title>Frogs</dc:title>
</cp:coreProperties>
</file>