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CF0E-F884-4F44-AD5D-05713FDC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4B1-3640-48DC-9AFC-4695545C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47D-C171-4244-8E42-EB4EB56D1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364-EE6E-4072-9ABB-1DD40A86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167F2-8D16-4DCE-9281-43FE06451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9C5A7-943A-4ED5-A0A6-1DE1A410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CC206-B606-47CB-8F28-6CD32763E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E4F3-B910-4802-AD09-2EE845DF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FBD1-8B0C-4CE3-92D2-C176E8AF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75B2-9DF2-4A66-938F-7CD5A3E3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E3FFB-E3A6-4A56-ADD1-A13E9F05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96CB-87F4-4D40-A1FD-84A6D1F04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427D-09B4-4284-8475-C7C30642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8582-F657-4771-B273-7F5D3D79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9720-10FC-4EBA-81E3-B97B81C19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52EA3-8619-4360-B132-9FC2D971A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792A-7EE1-48F5-B7B8-A2578AE5E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4FBA-56A2-4ECD-B5EA-90A7383D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24B1-4462-41EC-A200-9F6DD0BD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FFE-35DA-44E1-ABC6-5A4A220D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087-2217-429E-81ED-DBC196F4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613-0D97-4FE1-B4C0-AD704034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677D-50BD-4EDD-A389-1FF4C82D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B08E-E3BE-4D86-B5B2-727C4340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F199-A47D-4D31-B13C-91F7FC090A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5690-96BD-4F67-9C1B-5F7C62A085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49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ffb7"/>
                </a:solidFill>
                <a:latin typeface="Arial Black"/>
              </a:rPr>
              <a:t>Frogs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M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248000" cy="30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ere do they liv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everywhere but not Antarc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635200" cy="17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are their enemi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nakes, small animals an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043360" cy="305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do they eat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lies and ins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16988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colours can they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green, a grass frog is  light brown and yellow and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71640" y="3470400"/>
            <a:ext cx="3529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5 Interesting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 frog starts off as a tadpole it then grows in to a frog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can camouflage in stuff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land softly with their  front  legs they sping off with their back le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have a sticky  tong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1827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7:58Z</dcterms:created>
  <dc:creator>nicola</dc:creator>
  <dc:description/>
  <dc:language>en-US</dc:language>
  <cp:lastModifiedBy>nicola</cp:lastModifiedBy>
  <dcterms:modified xsi:type="dcterms:W3CDTF">2010-05-04T01:33:33Z</dcterms:modified>
  <cp:revision>10</cp:revision>
  <dc:subject/>
  <dc:title>Frogs</dc:title>
</cp:coreProperties>
</file>