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16F-DF59-4880-A259-CB06A6F9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3D9-FCE0-4EE3-920B-E6C5811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033-AD15-4423-83FE-C2F52DB4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66E-9516-4ECB-A256-F96A0893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B98B-31CE-4AF3-8644-0F631196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831F-D07F-4436-A5D0-2533F95B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3B8-2346-429F-B6C2-9FC08B8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8A7-C82B-4E21-8CA9-F8AB8BF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50A0-9AC2-4D5C-873B-7E90E41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9DEE-246C-47D6-B8A6-0E6CF70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326F-36D4-47BD-B553-146C58E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0D8-630A-4929-9CE8-6E8BF43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EA84-C938-42B9-AEA4-7DD35CF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E859-1C48-4267-8F15-8EA7262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9B1-D1FE-498E-B8CB-315C462C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6BE3-9F71-499E-92E0-02193342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E1A-7936-4752-ACD2-88ABE361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4C1-4F3C-4346-B206-5A051761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ED6-2EE8-4D4B-81B6-12549AFD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5F2-4D27-418B-BC1E-8FC474C6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792-94B3-4F1D-86BB-E44F180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F27-86BC-4A6F-80B5-B0AA727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B43-14BE-456A-94B0-E21FD5EE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F7B-B55C-43C0-BBD4-4669D25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E3C8-CB10-4113-8740-4509C528FBC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070-3044-4D70-B9F2-F59D7BF235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8920" y="126792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Butterfl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By Christ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3810240" cy="2524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ere do they live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almost everywhere in the wor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in tropical rainforests and on mountain tops in summ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do they ea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eat nectar in flow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drink wa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are their enemie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ir enemies are birds, lizards and ca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33843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5 interesting fa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biggest butterfly is the  Queen Alexandra birdwing. From the tip of one wing to the other is 28 centimet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smallest butterfly is the Western pygmy butterfly. It is as big as a shirt butt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onarch butterflies have been swept across oceans on the wind. Some arrived in Australia  and New Zealand from North Americ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A caterpillar eats about 25,000 times its own weight in fo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comma butterfly has shaped wings that make it look like a leaf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19640" y="260280"/>
            <a:ext cx="1940040" cy="1273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3708360" y="5516640"/>
            <a:ext cx="1487520" cy="1112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724360" y="558972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7d47d"/>
                </a:solidFill>
                <a:latin typeface="Arial"/>
              </a:rPr>
              <a:t>Thanks for watching my show, bye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844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943360" cy="2200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029040" cy="208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3124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3:31:22Z</dcterms:created>
  <dc:creator>room6</dc:creator>
  <dc:description/>
  <dc:language>en-US</dc:language>
  <cp:lastModifiedBy>room6</cp:lastModifiedBy>
  <dcterms:modified xsi:type="dcterms:W3CDTF">2010-06-04T00:27:25Z</dcterms:modified>
  <cp:revision>6</cp:revision>
  <dc:subject/>
  <dc:title>Butterflies</dc:title>
</cp:coreProperties>
</file>