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56AA-432A-4331-B1BB-91D89A69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5FA2-F896-4D7A-A628-0E0B0BAC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176D-D9C5-41D6-89D1-701EF4528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4105-B122-453E-8592-677C7A73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644D5-04D4-447A-8A9A-2DF1201C8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4EEB-080F-432D-95DF-10ED88F4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F3DDB-1E83-40B1-B0B0-225C84765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93F0-514A-4411-98B1-7193F794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F3AE-6F67-4213-8AAD-F6C545D0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8CE5-2039-49DE-BA16-59813734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691C9-F96E-4CAC-9343-1AC01045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A28C-FC1D-471C-A2FE-005DE971F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C6AE7-A5D6-4B90-83A1-D41ED854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8C614-AC28-460E-9613-ADC6115B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34F3-3AAF-40DD-9CA7-43BD1B0E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E035-4A4D-4CEF-A70D-9E01FC799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6548-1745-4014-9C98-714EB1CC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DA58-C74E-48DE-B08A-7CFA0A0E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9E05-9559-4035-A61F-BE457C18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04BA-DEF3-4753-AF24-F99E512E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B879-23BA-43AF-832C-83B2FE01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6F05-F8D1-441D-B948-4460D8D4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271F-33B2-461B-844E-94C2AD14F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47FE-C617-411F-9F8B-527E57A4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05AC-ADF8-4F18-92F2-6901C79A52D2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CED8-E7DA-4CAF-98E9-A67F2991AF71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58920" y="1267920"/>
            <a:ext cx="69656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Butterflie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0000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By Christine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411280" y="4076640"/>
            <a:ext cx="3810240" cy="252432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2987640" y="260280"/>
            <a:ext cx="2519280" cy="17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1890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Where do they live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y live almost everywhere in the world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y live in tropical rainforests and on mountain tops in summ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2340000" y="3860640"/>
            <a:ext cx="380988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What do they eat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y eat nectar in flower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y drink wate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2700360" y="3933720"/>
            <a:ext cx="380988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What are their enemies?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2f1311"/>
                </a:solidFill>
                <a:latin typeface="Arial"/>
              </a:rPr>
              <a:t>Their enemies are birds, lizards and cat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340000" y="2997360"/>
            <a:ext cx="338436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7d47d"/>
                </a:solidFill>
                <a:latin typeface="Arial"/>
              </a:rPr>
              <a:t>5 interesting facts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he biggest butterfly is the  Queen Alexandra birdwing. From the tip of one wing to the other is 28 centimetres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he smallest butterfly is the Western pygmy butterfly. It is as big as a shirt button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Monarch butterflies have been swept across oceans on the wind. Some arrived in Australia  and New Zealand from North America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A caterpillar eats about 25,000 times its own weight in food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2f1311"/>
                </a:solidFill>
                <a:latin typeface="Arial"/>
              </a:rPr>
              <a:t>The comma butterfly has shaped wings that make it look like a leaf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5219640" y="260280"/>
            <a:ext cx="1940040" cy="12733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3708360" y="5516640"/>
            <a:ext cx="1487520" cy="11127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8"/>
          <a:stretch/>
        </p:blipFill>
        <p:spPr>
          <a:xfrm>
            <a:off x="5724360" y="5589720"/>
            <a:ext cx="1428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indefinite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2" dur="indefinite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6" dur="indefinite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" dur="indefinite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7d47d"/>
                </a:solidFill>
                <a:latin typeface="Arial"/>
              </a:rPr>
              <a:t>Thanks for watching my show, bye!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084480" cy="2232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539640" y="3933720"/>
            <a:ext cx="2943360" cy="2200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3851280" y="1557360"/>
            <a:ext cx="3029040" cy="20858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3780000" y="3933720"/>
            <a:ext cx="3124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3:31:22Z</dcterms:created>
  <dc:creator>room6</dc:creator>
  <dc:description/>
  <dc:language>en-US</dc:language>
  <cp:lastModifiedBy>room6</cp:lastModifiedBy>
  <dcterms:modified xsi:type="dcterms:W3CDTF">2010-06-04T00:27:25Z</dcterms:modified>
  <cp:revision>6</cp:revision>
  <dc:subject/>
  <dc:title>Butterflies</dc:title>
</cp:coreProperties>
</file>