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AB0D-FC64-49C2-BF02-F2EDD414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D027-E986-4FE4-A8AF-2B1754B7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9C75-B830-4B5F-8CDF-6E5FD3AD2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A19-4412-4C7E-A718-63BD3CA6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B693-6268-421E-B1E8-BD39AF3C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6B42E-5EC7-4E63-A427-7074412C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2E4F-CFBA-4DE2-B1DB-F05CBA32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97EB-4A31-4A1C-AFCB-A450CBB7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73027-CCD6-4C6C-913D-D8CCF7C8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24D9B-B12F-48E9-B9BF-7B2DE2C0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5FDA-E08C-4A3D-BF12-943F37542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B6A4-6612-40AC-A3CF-B113DBE1A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48D6-63C9-46D1-AFF4-A2FD20D9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2F36-0F09-41BC-B4D1-74F5D783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121D-05D1-4B86-AA15-960FA488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A18B-C3FA-4DAC-88E1-5FBFC3521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CEA1-2727-4A42-A093-00C44BDC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A728-F506-4E11-AD9F-726AAA869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933-AEEE-499B-89C7-F76833352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D7C5-D959-45B1-B6CF-0506747A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386-C71F-4397-A2FA-31EC991A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1A53-D424-443B-AF1A-413CE4B8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A27A-9C56-4304-A121-37B69133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6C4A-7E1F-400E-9B22-D95C8A82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5F14-7268-4E00-9CD4-53A5E6885FD0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AC98-1A58-4E13-9DCC-91CC0D1A311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8920" y="1267920"/>
            <a:ext cx="6965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Butterfl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00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By Christi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3810240" cy="2524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987640" y="26028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Where do they live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live almost everywhere in the worl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live in tropical rainforests and on mountain tops in summ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340000" y="3860640"/>
            <a:ext cx="38098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What do they eat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eat nectar in flow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drink wat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700360" y="3933720"/>
            <a:ext cx="38098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What are their enemies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ir enemies are birds, lizards and cat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338436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5 interesting fac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biggest butterfly is the  Queen Alexandra birdwing. From the tip of one wing to the other is 28 centimetr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smallest butterfly is the Western pygmy butterfly. It is as big as a shirt butt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Monarch butterflies have been swept across oceans on the wind. Some arrived in Australia  and New Zealand from North Americ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A caterpillar eats about 25,000 times its own weight in fo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comma butterfly has shaped wings that make it look like a leaf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219640" y="260280"/>
            <a:ext cx="1940040" cy="12733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3708360" y="5516640"/>
            <a:ext cx="1487520" cy="1112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5724360" y="558972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7d47d"/>
                </a:solidFill>
                <a:latin typeface="Arial"/>
              </a:rPr>
              <a:t>Thanks for watching my show, bye!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084480" cy="2232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39640" y="3933720"/>
            <a:ext cx="2943360" cy="2200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3029040" cy="2085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780000" y="3933720"/>
            <a:ext cx="3124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3:31:22Z</dcterms:created>
  <dc:creator>room6</dc:creator>
  <dc:description/>
  <dc:language>en-US</dc:language>
  <cp:lastModifiedBy>room6</cp:lastModifiedBy>
  <dcterms:modified xsi:type="dcterms:W3CDTF">2010-06-04T00:27:25Z</dcterms:modified>
  <cp:revision>6</cp:revision>
  <dc:subject/>
  <dc:title>Butterflies</dc:title>
</cp:coreProperties>
</file>