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990-E113-4F0C-A1CB-300EC105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7A9-8EF7-4955-988F-A3E5A3F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2F0-13CC-4C07-AF82-8E697379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79E-BCCD-442D-83AD-1F709C9A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3C04-A189-4C6C-8716-C419D8AF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E566-4576-4C6E-8E5D-5379733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739C-8F84-430B-B8FB-335475DB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0A56-B499-4C46-954A-3A55B5C1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B7ED-8A59-4A3D-96A4-ECEC3FA1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A01-7CCA-4F5F-B804-28741C1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7032-5AA1-4A1F-8B26-4C3427C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9F3-1FEA-4442-8AEF-50CDAD2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7B48-95A6-48F6-8F05-7AFDF96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212F-0B68-43A5-8E13-4034494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F452-265F-4505-8F51-C742437C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B51-0236-4CBF-BC85-8F8A55C3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697B-704E-4E30-B393-E410266A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D86-DA37-44DF-8EEB-6AED774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6C8-2EC7-49DB-8BC4-8F426E20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AA2-94A2-44D5-93A2-DAD2161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E45-C237-47F8-960C-5913DBDA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608-D703-4976-86FF-5A645F5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F13-25DF-4CC7-8915-7CABE06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747-ED0E-4275-ADFC-11F5ECF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B517-5D0B-48AA-892D-DBC1604FD01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6EF-02D3-468F-97CB-E2862CBAAB7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8920" y="126792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Butterfl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By Christ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3810240" cy="2524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ere do they live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almost everywhere in th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in tropical rainforests and on mountain tops in summ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do they ea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eat nectar in flow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drink wa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are their enemie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ir enemies are birds, lizards and ca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3384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5 interesting f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biggest butterfly is the  Queen Alexandra birdwing. From the tip of one wing to the other is 28 centimet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smallest butterfly is the Western pygmy butterfly. It is as big as a shirt butt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onarch butterflies have been swept across oceans on the wind. Some arrived in Australia  and New Zealand from North Americ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A caterpillar eats about 25,000 times its own weight in fo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comma butterfly has shaped wings that make it look like a leaf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19640" y="260280"/>
            <a:ext cx="1940040" cy="1273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708360" y="5516640"/>
            <a:ext cx="1487520" cy="1112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724360" y="558972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7d47d"/>
                </a:solidFill>
                <a:latin typeface="Arial"/>
              </a:rPr>
              <a:t>Thanks for watching my show, bye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844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943360" cy="2200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029040" cy="208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124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31:22Z</dcterms:created>
  <dc:creator>room6</dc:creator>
  <dc:description/>
  <dc:language>en-US</dc:language>
  <cp:lastModifiedBy>room6</cp:lastModifiedBy>
  <dcterms:modified xsi:type="dcterms:W3CDTF">2010-06-04T00:27:25Z</dcterms:modified>
  <cp:revision>6</cp:revision>
  <dc:subject/>
  <dc:title>Butterflies</dc:title>
</cp:coreProperties>
</file>