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BC37-3F5C-4501-BE41-62348C1C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0D05-00E3-49AD-8860-7D554E5D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A1B8-5B80-4232-9212-F59ED6698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B140-4DF8-41C5-9FE3-AAD4DD50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5613A-DDBB-4A08-995C-072F2F6CD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C94F8-4F96-433F-B879-08C94195E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6BDDE-262D-47A5-8D8E-13DD420D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A525BC-EA90-424E-9E59-B798E5D5E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260751-94BE-402C-977F-AAE6E1C4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F9F82-E1CF-4E46-9FAD-372BD0A0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403D86-A6AC-4534-8E43-BFE7480FF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B2BA-C9DC-4EA5-A177-1C807729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36334-CC60-4D72-BADC-EED1F3E4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B4EB2-B739-409B-972A-EE96A3355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A31B7-A673-4F31-83EA-4E2EA63E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6059AD-CCF8-4583-B48A-DAB4B800C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8D194-BA0C-44AA-9A07-E88E91A5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082E-2C2C-4918-8903-940AD8B6D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6FF7-0019-403E-AF91-77287EB6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DCE3-7A76-4683-B6CB-0242E294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D4B6-24E2-4655-A44D-48171855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D60F-BD78-4A00-974B-EB33AF290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908D-F2E5-4DF3-A966-92CED7CE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B831-B9A9-4CCC-9D9F-51B147E8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C9D29-8D1E-4616-9AEA-CA4E5280B3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11DB-F53B-429B-8972-806423F7E4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Butterfli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403280" y="2852640"/>
            <a:ext cx="6400800" cy="3097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276720" y="206064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Tahoma"/>
              </a:rPr>
              <a:t>By Pai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Five Interesting Fac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ey can camouflag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Some butterflies can be as small as a butt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All kinds of butterflies fly in different way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Some can be pes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Monarch butterflies have been swept across the ocea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The butterflies eats nectar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476360" y="2062080"/>
            <a:ext cx="5986440" cy="2994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8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They live in warm place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908000" y="2324160"/>
            <a:ext cx="5843880" cy="2922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68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68" fill="hold"/>
                                        <p:tgtEl>
                                          <p:spTgt spid="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68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They can grow up to 28c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619280" y="1930320"/>
            <a:ext cx="6635880" cy="3319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Tahoma"/>
              </a:rPr>
              <a:t>Their enemies are birds,lizards,frogs and other insects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They lay egg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ahoma"/>
              </a:rPr>
              <a:t>Parts of a butterfl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476360" y="2192400"/>
            <a:ext cx="5338800" cy="2670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9999ff"/>
                </a:solidFill>
                <a:latin typeface="Tahoma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591516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23:52:25Z</dcterms:created>
  <dc:creator>room6</dc:creator>
  <dc:description/>
  <dc:language>en-US</dc:language>
  <cp:lastModifiedBy>room6</cp:lastModifiedBy>
  <dcterms:modified xsi:type="dcterms:W3CDTF">2010-05-05T21:46:53Z</dcterms:modified>
  <cp:revision>8</cp:revision>
  <dc:subject/>
  <dc:title>Butter fly</dc:title>
</cp:coreProperties>
</file>