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61D-EE4E-496E-938F-55C3499E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AD3-3DD9-4727-9246-988ADF3C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4DA-BDF0-4042-968F-2EC4E961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AB9-6D19-4BD6-92C1-236DE891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A9D85-3ECC-4C1B-BA06-5BC3A892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87357-CADB-46D2-A036-0A6AADB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00D9F-A72C-4853-B4C4-9B133F5D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E199C-6835-422A-A07B-478434A2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264BB-6660-4A9E-8623-7FFF1495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9FEDF-663C-4C48-A649-85A8A5D6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96CBA-F26D-43C8-9E03-5F20413B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A6C-BA47-462C-B4CE-BCF0FA98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21359-AACA-4F49-A9F9-4ADE2C00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80343-D760-455E-9603-45B32B2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0A1BD-AC8C-4C3B-8FC8-214FA1E2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9EF35-CBDA-46F6-9B8D-28DBA0FC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1EFE0-0CF9-4E7C-BB30-F144C0AF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D13-0421-41F4-A8EE-E55E053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6CA-4FDD-41E2-9913-D40C498B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78D-9827-4DDE-BAFE-B223049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E34-52D3-47A5-8C3B-D67A8225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5C1-8AF4-4303-94B6-9C9C3BE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61D-F6D9-44A9-94F2-383F20C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76D-9E09-45E6-9D8C-BCAE329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46C6-F425-48C4-BADE-19A038F43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7EA-2ED5-48D9-8E93-4F97F9F76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Butterfl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6400800" cy="309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By Pai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ive Interesting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y can camoufl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butterflies can be as small as a but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ll kinds of butterflies fly in different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can be pe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narch butterflies have been swept across the oce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 butterflies eats necta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062080"/>
            <a:ext cx="5986440" cy="299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ive in warm pla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8000" y="2324160"/>
            <a:ext cx="5843880" cy="29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can grow up to 28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1930320"/>
            <a:ext cx="663588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Their enemies are birds,lizards,frogs and other insects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ay eg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arts of a butterf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2192400"/>
            <a:ext cx="5338800" cy="267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99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9151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3:52:25Z</dcterms:created>
  <dc:creator>room6</dc:creator>
  <dc:description/>
  <dc:language>en-US</dc:language>
  <cp:lastModifiedBy>room6</cp:lastModifiedBy>
  <dcterms:modified xsi:type="dcterms:W3CDTF">2010-05-05T21:46:53Z</dcterms:modified>
  <cp:revision>8</cp:revision>
  <dc:subject/>
  <dc:title>Butter fly</dc:title>
</cp:coreProperties>
</file>