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0E9E-5A2C-427C-9F90-B8095677D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2CE0-1F79-4260-9A1D-0DEF6AB9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E2F-53AD-4F5C-BEAB-0B88FE6E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FC82-285E-408F-B7A6-5ABB5916D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41F90-82BA-4B9F-87F7-7BA39BAE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890A6D-871E-4211-917D-5DD5F06A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F5EBE-703B-4FC9-9924-1C6A4986A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4DC58-2B43-4D03-AE0C-B86B98725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FE352-3A4E-4E75-A4CD-84395094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DD56C5-5B18-4AE9-80F6-1EE5805E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9A88A-9D63-4F8C-842D-BBC835E7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C559-D005-4FE7-9016-048F3938E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23CB6-7DF9-43F1-A7B5-D593738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5C84B-DA82-49B0-9D81-28E5F679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3E345-2F34-44D9-90A2-AF5E0B570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0D0FB6-A0AD-40AB-952E-51295D2B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6696F9-3D20-44C3-95C7-3EE9F40D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CE31-85D1-4D56-A04A-A907527F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D29C-96EE-4A9F-AD69-8E984E17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28AC-4A0A-45E2-B1D3-2FE0AC3D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206-FDD4-4BC4-86CE-4A35E1DB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543B-8C1E-47E6-9DC6-F037A8F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677-1E7F-4945-B1C6-27B55E5F3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18F-9BE9-4DE0-BBA1-BF1EE42A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A9F8-6B49-4F77-8C86-19BB1602FD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3ABC-6A5E-4748-91FC-2CF72DA2E5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Butterf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640080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y Pai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ive Interesting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can camoufl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butterflies can be as small as a but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l kinds of butterflies fly in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can be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narch butterflies have been swept across the oce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 butterflies eats nect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5986440" cy="299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ive in warm pl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2324160"/>
            <a:ext cx="584388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can grow up to 28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930320"/>
            <a:ext cx="663588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Their enemies are birds,lizards,frogs and other insects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ay eg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arts of a butter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192400"/>
            <a:ext cx="5338800" cy="267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99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9151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3:52:25Z</dcterms:created>
  <dc:creator>room6</dc:creator>
  <dc:description/>
  <dc:language>en-US</dc:language>
  <cp:lastModifiedBy>room6</cp:lastModifiedBy>
  <dcterms:modified xsi:type="dcterms:W3CDTF">2010-05-05T21:46:53Z</dcterms:modified>
  <cp:revision>8</cp:revision>
  <dc:subject/>
  <dc:title>Butter fly</dc:title>
</cp:coreProperties>
</file>