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04E-43C2-4FBF-9688-91CE37EB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6B9-9B1C-4E95-A700-C9D88363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119-924D-48D4-BFCA-2A9852ED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DE2-DB5F-484E-AD4B-B9A9EBBE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E0113-530B-4639-8718-3C3D7841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9767F-84A2-4633-AEA3-6D678F1D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1B170-3C34-439D-98DC-CA4EAEA0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F0813-C7E7-4E05-AE22-F66D8FD1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423D2-6C44-4A04-8DA2-DC7EC4DF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D46AA-F66F-411D-8DFB-6CD47797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59ABB-BA9E-4B7C-9BB8-9634A05B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FA8-D270-44B1-886C-04DEA5FD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B492C-A86C-494B-A295-7DC1464D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CEA7B-2DDA-41A8-AEAF-ACB4FDB3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BFE7A-7007-42FB-AD03-61CC8F40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CBEF1-772B-44C0-AAA9-D1C616F3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E4845-542B-40E9-86B1-6A653601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CB2-8301-438B-9F60-34AF4121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2A3-E995-4671-BCB9-60A2F6EA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974-9C55-402D-8889-DF9F8C14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0F9-5406-4D5E-A392-F16BDC1F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F38-407E-4ECD-89B4-3C51CDF9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283-6278-400B-9E9F-7427900D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028-8BEE-4EF3-9F51-4763D249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048B-F571-4004-908F-CF7A3062B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3B95-6C6D-43A7-9E81-EC6C91DAD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Butterfl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2852640"/>
            <a:ext cx="6400800" cy="3097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6720" y="2060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By Pai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Five Interesting F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y can camoufl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ome butterflies can be as small as a butt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ll kinds of butterflies fly in different w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ome can be pes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Monarch butterflies have been swept across the oce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The butterflies eats necta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76360" y="2062080"/>
            <a:ext cx="5986440" cy="299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They live in warm plac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08000" y="2324160"/>
            <a:ext cx="5843880" cy="292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They can grow up to 28c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19280" y="1930320"/>
            <a:ext cx="6635880" cy="331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ahoma"/>
              </a:rPr>
              <a:t>Their enemies are birds,lizards,frogs and other insects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They lay eg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Parts of a butterfl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76360" y="2192400"/>
            <a:ext cx="5338800" cy="2670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99ff"/>
                </a:solidFill>
                <a:latin typeface="Tahoma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591516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3:52:25Z</dcterms:created>
  <dc:creator>room6</dc:creator>
  <dc:description/>
  <dc:language>en-US</dc:language>
  <cp:lastModifiedBy>room6</cp:lastModifiedBy>
  <dcterms:modified xsi:type="dcterms:W3CDTF">2010-05-05T21:46:53Z</dcterms:modified>
  <cp:revision>8</cp:revision>
  <dc:subject/>
  <dc:title>Butter fly</dc:title>
</cp:coreProperties>
</file>