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42A6-BE88-41B4-AE8B-74C07BEA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417F-AA23-4FD8-87A3-3003837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1648-CA54-4265-BD7D-2EC15052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7D5B-3175-40C8-B543-F468DBB2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1FA3-5775-438E-8CBC-342C11AE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4848-326A-4691-B118-6602DBD1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F15C-9590-4A99-B3CC-32C2C97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6697-6C96-4FFD-A3C8-5168F95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2F9D-F9BB-4662-932B-2FB232C8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4B0-A755-41A1-BC6B-D167084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1E68-57A9-4A32-9C64-AFC2480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57CD-FA48-46BA-99E0-53563229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59D8-2808-48C3-93CB-ACB150E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9C3-5AC1-43E2-9C0F-B365CFE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4D8-C545-4CFD-8C61-9B44CEC2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5DF4-3CFD-4DC6-902E-C768D15A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526F-6AD4-40A3-B93E-11B6EFB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0FAB-ED4E-412D-8E64-B64E234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1DD8-081C-40A0-A926-4D756AD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74E6-DBC7-4600-8B61-12A553C1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9643-CC6F-4CA8-904D-A507E58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1C42-1118-435A-B850-474D31E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1BB5-33F5-4FC8-ACCD-190BE78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2E65-57D6-4058-9A91-7CC2264B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D6C2-94F2-42B3-B9B1-175AC29B6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0068-4671-4687-8297-3E00B7927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Beav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Daniel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31128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they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in North America and ponds, lakes, rivers, marshes and stre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3146400"/>
            <a:ext cx="266544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they eat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plants, reeds, wood, leaves and ba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0364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Is A Beaver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 beaver is a large rodent that lives in th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ir enemies are wolves, bears and fox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97172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2916360"/>
            <a:ext cx="2519280" cy="31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952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8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y can go under water for 15 minutes and not come out fo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en they sense there is danger it splashes its tail hard down to warn other beavers to be caref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scratches at the bark. It gnaws through one side. It gnaws through the other side. The tree fa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 beaver grooms itself with it c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grips the branch tightly with its front claw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0:15:35Z</dcterms:created>
  <dc:creator>room6</dc:creator>
  <dc:description/>
  <dc:language>en-US</dc:language>
  <cp:lastModifiedBy>room6</cp:lastModifiedBy>
  <dcterms:modified xsi:type="dcterms:W3CDTF">2010-05-25T21:36:53Z</dcterms:modified>
  <cp:revision>9</cp:revision>
  <dc:subject/>
  <dc:title>Beavers</dc:title>
</cp:coreProperties>
</file>