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18FDD-63C6-4E5B-9F9A-7C44C505A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E7935-C0E9-49FD-8FA6-263FB0D7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B6666-14C7-40BE-BAAF-EE55CE9C0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E8540-CEEE-4898-8121-1A1C4CAE7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9291-4B5D-4413-BACF-14332F34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089F-4ABF-4692-AC7F-D18D5AFB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E6107-1DA6-4557-8AAD-96FCD89FA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0C6C8-936D-4E1E-9D88-F2A1841F6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1A92-693A-482D-AAF1-F690B703A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8E85-5D03-41FE-B7CC-AC5CC6C5E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AF2A2-E8DB-40D8-B7EE-AFD34C2A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0A804-F663-4F77-A2F0-2B61A42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CD66-6D9B-470A-9C7D-4525628E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506B-8A08-480D-81BA-ADCCBB8F4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AE8-4AF4-4F5B-9CDA-534A2A511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0D95-B813-467A-B881-F3BF1622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BFE4-4762-4766-AAB8-1AE4B750B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4A7BC-E1EC-4583-A4CC-C8C0A072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CEA07-C8F5-4184-B6B4-B6F1DBC9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13D9E-828C-4CC3-8F29-3CEDE908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D1E33-DE76-4FD2-81DC-39207E88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4C114-4035-4F16-A888-E24D6DD4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665A0-770E-45BB-8953-33EB57664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BF338-8C7C-4605-A7DB-70B29404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20A9-BA14-45C5-923D-462D8CC494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1148-6C9E-4A7F-B605-ADE089AAB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Beavers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Daniel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3311280" cy="200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they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in North America and ponds, lakes, rivers, marshes and stream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843280" y="3146400"/>
            <a:ext cx="2665440" cy="264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they eat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plants, reeds, wood, leaves and bark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484360" y="3068640"/>
            <a:ext cx="4103640" cy="250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Is A Beaver 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 beaver is a large rodent that lives in the water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411280" y="2637000"/>
            <a:ext cx="417672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ir enemies are wolves, bears and fox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76720" y="2997360"/>
            <a:ext cx="1971720" cy="230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8360" y="2916360"/>
            <a:ext cx="2519280" cy="317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5435640" y="2492280"/>
            <a:ext cx="295272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en-NZ" sz="48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y can go under water for 15 minutes and not come out for ai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When they sense there is danger it splashes its tail hard down to warn other beavers to be carefu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scratches at the bark. It gnaws through one side. It gnaws through the other side. The tree fall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A beaver grooms itself with it claw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Garamond"/>
              </a:rPr>
              <a:t>The beaver grips the branch tightly with its front claw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0:15:35Z</dcterms:created>
  <dc:creator>room6</dc:creator>
  <dc:description/>
  <dc:language>en-US</dc:language>
  <cp:lastModifiedBy>room6</cp:lastModifiedBy>
  <dcterms:modified xsi:type="dcterms:W3CDTF">2010-05-25T21:36:53Z</dcterms:modified>
  <cp:revision>9</cp:revision>
  <dc:subject/>
  <dc:title>Beavers</dc:title>
</cp:coreProperties>
</file>