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08A19-7708-4CD4-B5D9-4EB00CCB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EAB0C-8B8D-4845-B141-A83876F4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E9173-D3BB-4762-8885-62AB0C60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ECCAE-74DB-4A8E-A266-7BED383E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00C3-7442-4EE2-8A94-46BF4C41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C766-0F9A-4456-8C06-2C6089D2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BB01-9810-4D9F-A569-DACA00D0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B737-11D6-417A-9311-F6C271C4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EF0B-9186-427E-A67D-3693BCF0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21A3-BBA6-4D17-A496-5E31EC2D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7928-99E0-47C4-BAEF-9018E434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AB421-B577-4B47-94C9-4337E472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DD3B-C912-4F48-A81C-16BF188C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8E0D-A945-4A24-A0DA-6F4C4D4C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944A-507F-4AF8-B891-3A464F30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0E77-5200-4BF1-B7D3-6331CDAF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2836-D9C9-45BA-95FA-5ACE25B4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CFC4F-1EC9-4F76-8CB4-E2ED45BF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50CDE-DDC5-487F-B0EA-126B8697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F55EB-7B8B-4A49-AA21-BF0755A2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FD2F-A254-49DB-8884-E658461C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ADD6-F3C8-4082-8A51-34B44D0A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11A52-531A-46C5-86E8-5ADC7332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292C-11CC-434B-B60D-F2A21407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E18F-B784-4ADF-9DAB-A4843276EF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AB25-0D17-494A-A352-C36AD28762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e5e5ff"/>
                </a:solidFill>
                <a:latin typeface="Garamond"/>
              </a:rPr>
              <a:t>Beave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By Daniel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3311280" cy="20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ere they l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live in North America and ponds, lakes, rivers, marshes and strea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43280" y="3146400"/>
            <a:ext cx="2665440" cy="26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do they eat 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eat plants, reeds, wood, leaves and bar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3068640"/>
            <a:ext cx="4103640" cy="25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Is A Beaver 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A beaver is a large rodent that lives in the w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17672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are there enemi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ir enemies are wolves, bears and fox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76720" y="2997360"/>
            <a:ext cx="1971720" cy="230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2916360"/>
            <a:ext cx="2519280" cy="317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435640" y="2492280"/>
            <a:ext cx="2952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NZ" sz="4800" spc="-1" strike="noStrike">
                <a:solidFill>
                  <a:srgbClr val="e5e5ff"/>
                </a:solidFill>
                <a:latin typeface="Garamond"/>
              </a:rPr>
              <a:t>5 interesting fact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y can go under water for 15 minutes and not come out for a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hen they sense there is danger it splashes its tail hard down to warn other beavers to be carefu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 beaver scratches at the bark. It gnaws through one side. It gnaws through the other side. The tree fal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A beaver grooms itself with it cla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 beaver grips the branch tightly with its front claw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08908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0:15:35Z</dcterms:created>
  <dc:creator>room6</dc:creator>
  <dc:description/>
  <dc:language>en-US</dc:language>
  <cp:lastModifiedBy>room6</cp:lastModifiedBy>
  <dcterms:modified xsi:type="dcterms:W3CDTF">2010-05-25T21:36:53Z</dcterms:modified>
  <cp:revision>9</cp:revision>
  <dc:subject/>
  <dc:title>Beavers</dc:title>
</cp:coreProperties>
</file>