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3C4EB-55A8-4446-AB6C-8EAA19E4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3B55F-5F7B-4E1B-9276-8AE4B986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39BC8-EB00-4EF1-A4E5-6F12316B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8F5FA-D618-4E9D-85A4-DDF0962A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5EC7-5C6F-4053-BE03-7E794DCA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2AC7-F51D-4769-B706-49148F14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DB61-4F80-4E50-8125-60D5DA6BC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0F37-8D8E-4BE2-8C83-1D2CE63E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235DB-11A7-4225-8015-3387093A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CB3A-86E0-4CDF-B582-0C01AE3A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9D92-5411-49FF-8239-DD9A1C26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34123-DF5C-48FD-8A22-B82777A4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5B70-350C-4DFC-88B1-1395E5817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F596-E86E-4266-AE56-444A6843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7F41-9ECD-4C87-8908-6BD2D43D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79713-C674-4601-9D58-EA1E1E82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DC24B-F5EA-431D-94A3-C098899F1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1837F-C8D3-42C9-9BEE-3C20FA87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41637-58C0-45B6-B794-8A92D51B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6F44B-1DEA-4959-BDD4-CBF1FB907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1E87-6760-4809-8F04-F3B63D76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FF34E-B33B-4F60-A758-D4244B95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F0C75-E334-48D9-A287-E84D1EB2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5F13-1299-4A67-A608-DFEA2213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0496-C06A-4A3F-AEA0-7F2A06172A7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E38F-8048-4454-A71B-D22D110EED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Beav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Daniel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31128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they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in North America and ponds, lakes, rivers, marshes and stre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3146400"/>
            <a:ext cx="266544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they eat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plants, reeds, wood, leaves and ba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410364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Is A Beaver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 beaver is a large rodent that lives in the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ir enemies are wolves, bears and fox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1971720" cy="23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2916360"/>
            <a:ext cx="2519280" cy="31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2952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8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y can go under water for 15 minutes and not come out fo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en they sense there is danger it splashes its tail hard down to warn other beavers to be caref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scratches at the bark. It gnaws through one side. It gnaws through the other side. The tree fa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 beaver grooms itself with it cla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grips the branch tightly with its front claw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0:15:35Z</dcterms:created>
  <dc:creator>room6</dc:creator>
  <dc:description/>
  <dc:language>en-US</dc:language>
  <cp:lastModifiedBy>room6</cp:lastModifiedBy>
  <dcterms:modified xsi:type="dcterms:W3CDTF">2010-05-25T21:36:53Z</dcterms:modified>
  <cp:revision>9</cp:revision>
  <dc:subject/>
  <dc:title>Beavers</dc:title>
</cp:coreProperties>
</file>